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9C7-23A2-4C70-AAB0-6B18A281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CAD-85B6-4B6F-8D01-820A2FA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6D8-454A-42C0-9F0B-E012D436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EFB-13DA-44DB-9293-2EAF17FD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E480-B4E2-4943-86EE-0F76EDB3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3CB4-BEDE-46D1-A9D1-4A19B059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8942-D2C9-4F27-B7BA-44B19E32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B2A-508A-4D3A-B297-CD652AB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C2D0-E50C-4803-B458-38092093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42BA-FC44-4B97-A247-62442CB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7CB8-DA0F-42FA-83DE-84445BB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98C-6DA8-4ABC-99D0-1821C83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4B49-F7AA-460A-B531-ED15E07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527B-A77C-4385-A6D2-30CA77C5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85B0-2B17-4E6C-BE2B-6F51F21F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80F4-EDEF-4942-8FC9-2636154B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C71B-997A-486F-A649-4F338E58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A0553-9D8C-4838-AFE8-508229D3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CC40-E973-4CFC-977B-6AD2F6E1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66203-6522-434F-A592-FC6A2FC9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BEDD-60D4-4B83-9415-76EFC386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F6E3-60FE-48B9-8C17-4719A01F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610-090B-417D-9367-2EBC2CA2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7B361-3097-4584-A6E9-46B2CE3C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4BC48-A08A-4B9F-8890-B37DF419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AFB91-3A27-4B6E-B31F-88CC170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56ED-9221-471C-831E-198EFF6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7CB8-8BE1-4814-AF57-F05425E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0071F-CC5F-479D-953D-F6DF608B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16DC-1202-43D0-A6FF-EBE389C4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689-7935-4E00-B169-46F9D4CF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380-DCC6-48E2-94AB-45E21BB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4BA-5D0E-4F99-A48C-2E02098B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72D-6186-4AF7-A7CC-12BF78A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DFBF-59AD-4C2A-85EF-55D5A4A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FA3-87C5-4134-BE8C-EC47D007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E506-82AE-4BE3-8FEA-F59C523C0238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A00F-73E8-4F1A-A46A-9F737C783E78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416-7C1C-4CAE-ABD1-40507CCF9A19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ering, ApPEC etc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86E5-9AB9-49AC-AD91-4F0ADD2999B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53E6-C8B9-43FF-AD6A-6ACBCA2F72F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E0A2-9E09-4AD9-956E-8E5FA988D3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89000"/>
            <a:ext cx="8785440" cy="532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69228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uropean Roadmap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Astroparticle Physic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PEC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8A4-5C0F-456F-89F0-2B622497EB9F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12807-A56C-4604-8FE7-AACE86F0AC96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35280" y="765000"/>
            <a:ext cx="57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will 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included ?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928080" y="4005360"/>
            <a:ext cx="7352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confuse this with the que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What belongs to Astroparticle Physics?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unique answer to this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D7F-3874-46A9-9CA3-C6A4D1BCE29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A6225-12A5-490B-B2DE-BF353DA899F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836640"/>
            <a:ext cx="792360" cy="273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20558400">
            <a:off x="1692000" y="4869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0000">
            <a:off x="6443280" y="515772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465300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347200">
            <a:off x="1331640" y="443700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0766600">
            <a:off x="1692360" y="4365720"/>
            <a:ext cx="21564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1063600">
            <a:off x="2050560" y="4220640"/>
            <a:ext cx="216000" cy="144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21140400">
            <a:off x="2411280" y="4149720"/>
            <a:ext cx="216000" cy="144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1107400">
            <a:off x="1618920" y="4005000"/>
            <a:ext cx="504720" cy="155520"/>
          </a:xfrm>
          <a:custGeom>
            <a:avLst/>
            <a:gdLst/>
            <a:ahLst/>
            <a:rect l="l" t="t" r="r" b="b"/>
            <a:pathLst>
              <a:path w="227" h="98">
                <a:moveTo>
                  <a:pt x="0" y="45"/>
                </a:moveTo>
                <a:cubicBezTo>
                  <a:pt x="49" y="71"/>
                  <a:pt x="98" y="98"/>
                  <a:pt x="136" y="91"/>
                </a:cubicBezTo>
                <a:cubicBezTo>
                  <a:pt x="174" y="84"/>
                  <a:pt x="200" y="42"/>
                  <a:pt x="227" y="0"/>
                </a:cubicBezTo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8000" y="4149720"/>
            <a:ext cx="71640" cy="28728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92360" y="3716280"/>
            <a:ext cx="71280" cy="360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63640" y="3716280"/>
            <a:ext cx="28728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18520" y="3510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Charged Cosmic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GeV-TeV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-324000" y="5300640"/>
            <a:ext cx="1943280" cy="720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6560" y="5445000"/>
            <a:ext cx="26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HE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atm.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(incl. DM in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542200">
            <a:off x="4643280" y="3860640"/>
            <a:ext cx="720720" cy="71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2492280"/>
            <a:ext cx="627120" cy="576360"/>
          </a:xfrm>
          <a:custGeom>
            <a:avLst/>
            <a:gdLst>
              <a:gd name="textAreaLeft" fmla="*/ 142920 w 627120"/>
              <a:gd name="textAreaRight" fmla="*/ 484200 w 6271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580000" y="2924280"/>
            <a:ext cx="2448000" cy="7920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0631600">
            <a:off x="5870160" y="2707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Solar a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2440" y="4869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nde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9440" y="3645000"/>
            <a:ext cx="161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i.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Hess, 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0614200">
            <a:off x="4482720" y="349992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Franklin Gothic Medium"/>
              </a:rPr>
              <a:t>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15720" y="472428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634920" y="2636640"/>
            <a:ext cx="576360" cy="194436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040" y="515772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DM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093080" y="3141360"/>
            <a:ext cx="1150920" cy="1942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36800" y="494172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37480" y="5661000"/>
            <a:ext cx="196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olar </a:t>
            </a:r>
            <a:r>
              <a:rPr b="0" lang="de-DE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66"/>
                </a:solidFill>
                <a:latin typeface="Franklin Gothic Medium"/>
              </a:rPr>
              <a:t>Supernova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7052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WI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933720"/>
            <a:ext cx="0" cy="2160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3860640"/>
            <a:ext cx="0" cy="2890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788000" y="189000"/>
            <a:ext cx="4356000" cy="2133000"/>
            <a:chOff x="4788000" y="189000"/>
            <a:chExt cx="4356000" cy="2133000"/>
          </a:xfrm>
        </p:grpSpPr>
        <p:sp>
          <p:nvSpPr>
            <p:cNvPr id="176" name=""/>
            <p:cNvSpPr/>
            <p:nvPr/>
          </p:nvSpPr>
          <p:spPr>
            <a:xfrm>
              <a:off x="6372360" y="33336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659280" y="18900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372000" y="62064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75200" y="30960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satell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765000"/>
              <a:ext cx="435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</a:t>
              </a:r>
              <a:r>
                <a:rPr b="0" lang="de-DE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(Agile, Gl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MeV/GeV CR (Pamela, AM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CR @ extreme energies (EUS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BE9-A6D4-4455-B101-9003158241B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B84F1-1240-4B55-AB59-49F95ACF6B16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558400">
            <a:off x="1115640" y="5084640"/>
            <a:ext cx="863640" cy="503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90520" y="62064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 particles from heaven 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 same infrastructure  (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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ly related question (tritium dec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61080" y="5516640"/>
            <a:ext cx="73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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440" y="5300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Franklin Gothic Medium"/>
              </a:rPr>
              <a:t>UG 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520080" y="4125960"/>
            <a:ext cx="5702760" cy="1857240"/>
            <a:chOff x="3520080" y="4125960"/>
            <a:chExt cx="5702760" cy="1857240"/>
          </a:xfrm>
        </p:grpSpPr>
        <p:sp>
          <p:nvSpPr>
            <p:cNvPr id="187" name=""/>
            <p:cNvSpPr/>
            <p:nvPr/>
          </p:nvSpPr>
          <p:spPr>
            <a:xfrm>
              <a:off x="3995640" y="4653000"/>
              <a:ext cx="863640" cy="503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500720" y="4365720"/>
              <a:ext cx="2447640" cy="50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20080" y="5157720"/>
              <a:ext cx="4774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Oscillations (accelerators) </a:t>
              </a:r>
              <a:r>
                <a:rPr b="0" lang="de-DE" sz="24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 N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66"/>
                  </a:solidFill>
                  <a:latin typeface="Franklin Gothic Medium"/>
                </a:rPr>
                <a:t>proton dec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955800">
              <a:off x="6876720" y="4436640"/>
              <a:ext cx="1079640" cy="14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84200" y="412596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Franklin Gothic Medium"/>
                </a:rPr>
                <a:t>Accel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643280" y="3068640"/>
            <a:ext cx="2259360" cy="1152360"/>
            <a:chOff x="4643280" y="3068640"/>
            <a:chExt cx="2259360" cy="1152360"/>
          </a:xfrm>
        </p:grpSpPr>
        <p:sp>
          <p:nvSpPr>
            <p:cNvPr id="193" name=""/>
            <p:cNvSpPr/>
            <p:nvPr/>
          </p:nvSpPr>
          <p:spPr>
            <a:xfrm>
              <a:off x="4856400" y="306864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Laser axion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643280" y="3573360"/>
              <a:ext cx="865440" cy="647640"/>
              <a:chOff x="4643280" y="3573360"/>
              <a:chExt cx="865440" cy="647640"/>
            </a:xfrm>
          </p:grpSpPr>
          <p:sp>
            <p:nvSpPr>
              <p:cNvPr id="195" name=""/>
              <p:cNvSpPr/>
              <p:nvPr/>
            </p:nvSpPr>
            <p:spPr>
              <a:xfrm>
                <a:off x="464328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8800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2917080" y="2852640"/>
            <a:ext cx="1440720" cy="1368360"/>
            <a:chOff x="2917080" y="2852640"/>
            <a:chExt cx="1440720" cy="1368360"/>
          </a:xfrm>
        </p:grpSpPr>
        <p:grpSp>
          <p:nvGrpSpPr>
            <p:cNvPr id="198" name=""/>
            <p:cNvGrpSpPr/>
            <p:nvPr/>
          </p:nvGrpSpPr>
          <p:grpSpPr>
            <a:xfrm>
              <a:off x="3492360" y="3573360"/>
              <a:ext cx="865440" cy="647640"/>
              <a:chOff x="3492360" y="3573360"/>
              <a:chExt cx="865440" cy="647640"/>
            </a:xfrm>
          </p:grpSpPr>
          <p:sp>
            <p:nvSpPr>
              <p:cNvPr id="199" name=""/>
              <p:cNvSpPr/>
              <p:nvPr/>
            </p:nvSpPr>
            <p:spPr>
              <a:xfrm>
                <a:off x="3492360" y="3573360"/>
                <a:ext cx="865440" cy="216000"/>
              </a:xfrm>
              <a:prstGeom prst="triangle">
                <a:avLst>
                  <a:gd name="adj" fmla="val 50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37080" y="3789360"/>
                <a:ext cx="574560" cy="4316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917080" y="2852640"/>
              <a:ext cx="86220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ranklin Gothic Medium"/>
                </a:rPr>
                <a:t>m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71120" y="3519360"/>
            <a:ext cx="2216520" cy="1103760"/>
            <a:chOff x="771120" y="3519360"/>
            <a:chExt cx="2216520" cy="1103760"/>
          </a:xfrm>
        </p:grpSpPr>
        <p:sp>
          <p:nvSpPr>
            <p:cNvPr id="203" name=""/>
            <p:cNvSpPr/>
            <p:nvPr/>
          </p:nvSpPr>
          <p:spPr>
            <a:xfrm>
              <a:off x="1835280" y="4292640"/>
              <a:ext cx="79200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56000" y="4365720"/>
              <a:ext cx="431640" cy="215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20517600">
              <a:off x="1476000" y="4076640"/>
              <a:ext cx="358920" cy="5032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1120" y="351936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ffffff"/>
                  </a:solidFill>
                  <a:latin typeface="Franklin Gothic Medium"/>
                </a:rPr>
                <a:t>Reacto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 txBox="1"/>
          <p:nvPr/>
        </p:nvSpPr>
        <p:spPr>
          <a:xfrm>
            <a:off x="1403280" y="342900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580000" y="3933720"/>
            <a:ext cx="762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8B3-D07E-4E83-98DE-B885EBA4D07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CE7C5-37A8-49B2-9F76-792617BFC627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1044720" y="4149720"/>
            <a:ext cx="11017440" cy="489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22960" y="37162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Resonance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3280" y="3573360"/>
            <a:ext cx="865440" cy="647640"/>
            <a:chOff x="4643280" y="3573360"/>
            <a:chExt cx="865440" cy="647640"/>
          </a:xfrm>
        </p:grpSpPr>
        <p:sp>
          <p:nvSpPr>
            <p:cNvPr id="212" name=""/>
            <p:cNvSpPr/>
            <p:nvPr/>
          </p:nvSpPr>
          <p:spPr>
            <a:xfrm>
              <a:off x="4643280" y="3573360"/>
              <a:ext cx="865440" cy="216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3789360"/>
              <a:ext cx="574560" cy="431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24000" y="476280"/>
            <a:ext cx="555840" cy="647640"/>
            <a:chOff x="5724000" y="476280"/>
            <a:chExt cx="555840" cy="647640"/>
          </a:xfrm>
        </p:grpSpPr>
        <p:sp>
          <p:nvSpPr>
            <p:cNvPr id="215" name=""/>
            <p:cNvSpPr/>
            <p:nvPr/>
          </p:nvSpPr>
          <p:spPr>
            <a:xfrm>
              <a:off x="5724360" y="62064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6011280" y="47628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724000" y="90792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995280" y="763560"/>
            <a:ext cx="555840" cy="647640"/>
            <a:chOff x="3995280" y="763560"/>
            <a:chExt cx="555840" cy="647640"/>
          </a:xfrm>
        </p:grpSpPr>
        <p:sp>
          <p:nvSpPr>
            <p:cNvPr id="219" name=""/>
            <p:cNvSpPr/>
            <p:nvPr/>
          </p:nvSpPr>
          <p:spPr>
            <a:xfrm>
              <a:off x="3995640" y="90792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282560" y="76356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95280" y="119520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660720" y="1628640"/>
            <a:ext cx="555840" cy="647640"/>
            <a:chOff x="6660720" y="1628640"/>
            <a:chExt cx="555840" cy="647640"/>
          </a:xfrm>
        </p:grpSpPr>
        <p:sp>
          <p:nvSpPr>
            <p:cNvPr id="223" name=""/>
            <p:cNvSpPr/>
            <p:nvPr/>
          </p:nvSpPr>
          <p:spPr>
            <a:xfrm>
              <a:off x="6661080" y="1773000"/>
              <a:ext cx="555480" cy="358920"/>
            </a:xfrm>
            <a:prstGeom prst="flowChartOnlineStorag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948000" y="1628640"/>
              <a:ext cx="144360" cy="21564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660720" y="2060280"/>
              <a:ext cx="144360" cy="216000"/>
            </a:xfrm>
            <a:prstGeom prst="line">
              <a:avLst/>
            </a:prstGeom>
            <a:ln w="7632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4284720" y="763200"/>
            <a:ext cx="151128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1197000"/>
            <a:ext cx="244800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1640" y="907560"/>
            <a:ext cx="936360" cy="100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042560" y="4221000"/>
            <a:ext cx="2016360" cy="43200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042560" y="4723920"/>
            <a:ext cx="2233800" cy="792360"/>
          </a:xfrm>
          <a:prstGeom prst="line">
            <a:avLst/>
          </a:prstGeom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84360" y="4365720"/>
            <a:ext cx="576000" cy="431640"/>
            <a:chOff x="684360" y="4365720"/>
            <a:chExt cx="576000" cy="431640"/>
          </a:xfrm>
        </p:grpSpPr>
        <p:sp>
          <p:nvSpPr>
            <p:cNvPr id="232" name=""/>
            <p:cNvSpPr/>
            <p:nvPr/>
          </p:nvSpPr>
          <p:spPr>
            <a:xfrm>
              <a:off x="684360" y="4365720"/>
              <a:ext cx="576000" cy="144000"/>
            </a:xfrm>
            <a:prstGeom prst="triangle">
              <a:avLst>
                <a:gd name="adj" fmla="val 50000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0480" y="4509720"/>
              <a:ext cx="382320" cy="287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807480" y="335772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Geo-600, VIR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40480" y="33336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Interfer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low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L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50920" y="404640"/>
            <a:ext cx="3238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vit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ves         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AC0-848F-4734-9B1F-8B1196D9D09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9C937-67A9-449A-A906-78462F312443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2411280" y="476280"/>
            <a:ext cx="44881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so not included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uclear astrophys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vered in nuclear physics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listed under APP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ark Energy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cessary to set the stage for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ully covered by astronomy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ot our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 some countries under one roof with APP 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arying fundamental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avity at short dist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556-4367-4BB8-B418-806978658C8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DA073-8040-41A6-B115-CC610E208E12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mpile the facts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ect questionnaires from all experiments with Europea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75 spokespersons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turn rate 96% (only 3 mi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cond loop for corrections fin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130 page document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will be available to the commun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art communication with the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AUP, German Astroparticle Workshop,             this Town Meeti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D1D-5F33-4789-AA5B-385ED9FE078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8DC560-C8D3-4461-BD6F-93C231E7B8A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ntact CERN strategy group (Dec.12) and national roadmap committees</a:t>
            </a:r>
            <a:r>
              <a:rPr b="0" lang="de-DE" sz="28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draft at a PRC meeting in Berlin at        Jan. 16/17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draft to SC Meeting at Jan 23/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discussion with SC and modifications:  place the draft on the web for everybody (mid February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communication with ESFRI (ApPEC S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dback from the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Meeting in Spring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Roadmap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to SC (May/June 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333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tep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BEC-D89F-481F-A233-723E08A5CDB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4038-6913-47EA-AAA5-1A699A987D3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smology and early Univer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ncluding dark mat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partic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utrino mass (direct and double beta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tic particles (WIMPs, axions, Q-Balls,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gnetic  monopo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ton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mal Universe: Low energy neutr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n-thermal Universe (gamma, neutrinos, cosmic ray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perties of the gravitational 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interferometers and resonant detec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47640" y="404640"/>
            <a:ext cx="6419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Sections of the Roadmap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463-EAF6-42DB-BDB6-721EAAB8C14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73621-E95F-4400-93F1-F97C3E37E858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11280" y="401400"/>
            <a:ext cx="792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eutrino Mass: single b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Tri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itz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i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KATRIN     KATRIN bol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Rhenium 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be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nu-2</a:t>
            </a:r>
            <a:r>
              <a:rPr b="0" lang="it-IT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ARE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126828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89440" y="2133720"/>
            <a:ext cx="1061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22160" y="5086440"/>
            <a:ext cx="1416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3080" y="2133720"/>
            <a:ext cx="13251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45840" y="4076640"/>
            <a:ext cx="19778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2 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66920" y="4723920"/>
            <a:ext cx="0" cy="36036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23320" y="5589720"/>
            <a:ext cx="35517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KATRIN 34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633840" y="3141720"/>
            <a:ext cx="792000" cy="2448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268000" y="1700280"/>
            <a:ext cx="358920" cy="288720"/>
          </a:xfrm>
          <a:prstGeom prst="line">
            <a:avLst/>
          </a:prstGeom>
          <a:ln w="38160">
            <a:solidFill>
              <a:srgbClr val="cccc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5AA-8B1F-4A3D-8B57-93713FAC65C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40DA-E5DD-40E1-937E-1813CCEA8DB1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762120" y="304920"/>
            <a:ext cx="7696080" cy="60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ouble Beta Experiment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318600" y="1413000"/>
            <a:ext cx="882792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elevant neutrino mass parameter 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&gt; 1 meV is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periments are sensitive to (m</a:t>
            </a:r>
            <a:r>
              <a:rPr b="0" lang="de-DE" sz="2400" spc="-1" strike="noStrike" baseline="-25000">
                <a:solidFill>
                  <a:srgbClr val="ffffff"/>
                </a:solidFill>
                <a:latin typeface="Arial"/>
              </a:rPr>
              <a:t>e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nuclear matrix element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he matrix el. are highly uncertain (at diff. level for diff. nucle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Form collaboration of adequate size and expertise aiming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 sensitivity down to or below 10 me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ome redundancy in the choice of nuclei (at least worldw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gorous program to reduce uncertainty of nuclear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lements, at least for a few key nucl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360" y="5516640"/>
            <a:ext cx="77320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International Statement on neutrinoless Double-Beta Decay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94880" y="5950080"/>
            <a:ext cx="153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ept.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983800">
            <a:off x="7247160" y="907920"/>
            <a:ext cx="16027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n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32CC-AC9E-4D0C-962A-018B2E840290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69B25-EC75-4625-8178-596DF49DA61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268280"/>
            <a:ext cx="8578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Review and assess research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Astroparticle Physics at the request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Advise and make recommend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rough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PEC steering committee to the national fu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gencies involved in ApPEC on research propos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mitted to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Keep under review current and proposed progra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mes in Astroparticle Physics of interest to ApPE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tribute to a medium and long-term plan of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future of APP in Euro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16000" y="260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eer Review Committe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4F6-599F-43C5-95E0-ED1E986BCFE6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016B0-3736-436D-9F16-D8E3D2DB3889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50920" y="288720"/>
            <a:ext cx="8675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utrino Mass: Double Beta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ast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present     next 5 years 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next 10 years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rda+Majo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ic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10 t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uore enrich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E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per-N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XO-200 *            EXO 1-10 ton*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BRA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59500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USA with Swiss part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90160" y="1989000"/>
            <a:ext cx="2722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30-5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6000" y="2349360"/>
            <a:ext cx="0" cy="432000"/>
          </a:xfrm>
          <a:prstGeom prst="line">
            <a:avLst/>
          </a:prstGeom>
          <a:ln w="38160">
            <a:solidFill>
              <a:srgbClr val="ffff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D4D-B636-4999-B811-815609438C3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A043-0EC3-4A4D-A3D2-548A42B96B6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8080" y="304920"/>
            <a:ext cx="762012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Dark Matter Experimen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5" name=""/>
          <p:cNvSpPr/>
          <p:nvPr/>
        </p:nvSpPr>
        <p:spPr>
          <a:xfrm>
            <a:off x="313920" y="1371600"/>
            <a:ext cx="8225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arch for WIMPs by direct detection method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 most valuable mean to solve the Dark Mat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t present several projects in Europe, US, Jap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im at a sensitivity for the spin-independ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IMP-nucleon cross section of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urther increase by two orders of magnitu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10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pb) is conceivable and des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quires detector on the ton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20983800">
            <a:off x="7248240" y="923760"/>
            <a:ext cx="14335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a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32D-F4BB-48D3-9B22-DD017F6D6FB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8A4E7-0E51-4612-93C3-48294C3671BB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62360" y="685800"/>
            <a:ext cx="8763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ment of current activity in 2 years in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rmin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 most promising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(at that time a clear demonstration of an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ensitivity in the 10</a:t>
            </a:r>
            <a:r>
              <a:rPr b="0" lang="de-DE" sz="2800" spc="-1" strike="noStrike" baseline="30000">
                <a:solidFill>
                  <a:srgbClr val="ffffff"/>
                </a:solidFill>
                <a:latin typeface="Arial"/>
              </a:rPr>
              <a:t>-8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range should be avail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mmon activity across Europe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clear recoil energy ca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roperties of neutron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mpact of nuclear form factors or halo parame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ans of validating a possible sig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ork on electron and gamma rejection techniques</a:t>
            </a:r>
            <a:r>
              <a:rPr b="0" lang="de-DE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EAC-0753-490E-8283-395B14C89CD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35C9A-F1D7-4251-9352-DF9CE82C55AC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68360" y="189000"/>
            <a:ext cx="779616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AMA/LIB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MA-1ton 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l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S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delweis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UR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OSEBUD R&amp;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G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GEX-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D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nius-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74160" y="90792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20732400">
            <a:off x="5098680" y="4292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C2EC-89CC-4794-B367-3C32D2F4B8AF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95431-1930-4005-B939-42D3B72059FF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468360" y="333360"/>
            <a:ext cx="7796160" cy="52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Noble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Zeplin-1 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eplin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enon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DM 10 t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 u="sng">
                <a:solidFill>
                  <a:srgbClr val="ffffff"/>
                </a:solidFill>
                <a:uFillTx/>
                <a:latin typeface="Arial"/>
              </a:rPr>
              <a:t>Directiona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I, II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Drif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ift 1 to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74160" y="1052640"/>
            <a:ext cx="2637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20-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0732400">
            <a:off x="5961960" y="551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0732400">
            <a:off x="5817600" y="3860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20732400">
            <a:off x="5746320" y="2276640"/>
            <a:ext cx="1200240" cy="459720"/>
          </a:xfrm>
          <a:prstGeom prst="rect">
            <a:avLst/>
          </a:prstGeom>
          <a:solidFill>
            <a:srgbClr val="ccccff"/>
          </a:solidFill>
          <a:ln w="324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67640" y="1989000"/>
            <a:ext cx="73080" cy="2087640"/>
          </a:xfrm>
          <a:custGeom>
            <a:avLst/>
            <a:gdLst>
              <a:gd name="textAreaLeft" fmla="*/ 0 w 73080"/>
              <a:gd name="textAreaRight" fmla="*/ 26280 w 730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924"/>
                </a:lnTo>
                <a:cubicBezTo>
                  <a:pt x="10800" y="8824"/>
                  <a:pt x="16200" y="9724"/>
                  <a:pt x="21600" y="9724"/>
                </a:cubicBezTo>
                <a:cubicBezTo>
                  <a:pt x="16200" y="9724"/>
                  <a:pt x="10800" y="10624"/>
                  <a:pt x="10800" y="115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96160" y="4745160"/>
            <a:ext cx="128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artic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ter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f DM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been s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6EF-DA3A-4E8D-98CF-988F88E988BD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9DC74-1B4E-4595-8D4B-7E9D16AD59CF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468360" y="333360"/>
            <a:ext cx="779616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it-IT" sz="3600" spc="-1" strike="noStrike">
                <a:solidFill>
                  <a:srgbClr val="ffffff"/>
                </a:solidFill>
                <a:latin typeface="Arial"/>
              </a:rPr>
              <a:t>Direct Dark Matter Search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uperheated grains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IMPLE (Lisb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CASSO (Montreal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23960" y="3284640"/>
            <a:ext cx="5923080" cy="265428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Axion Sear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CAST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PVLAS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HERA/LHC magnets?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6CB-C93E-46DA-A313-D635B96349EF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8A677-4F11-475A-8CAF-C2D6BF57E17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476280"/>
            <a:ext cx="7056720" cy="5111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68560" y="568008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39520" y="5475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440" y="508464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8240" y="350028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9520" y="2060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63640" y="907920"/>
            <a:ext cx="3313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836640"/>
            <a:ext cx="2737080" cy="4680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04000" y="1195560"/>
            <a:ext cx="792360" cy="5047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4360" y="1771560"/>
            <a:ext cx="0" cy="1656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08720" y="1700280"/>
            <a:ext cx="792000" cy="863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00720" y="2563920"/>
            <a:ext cx="1727280" cy="2952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4880" y="371484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ion 2002 (R. Gaitsk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32360" y="2852280"/>
            <a:ext cx="934920" cy="792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-647280" y="281556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ross section (p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9960" y="4457880"/>
            <a:ext cx="421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IMP-DM cross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A23-B3B8-4A64-8110-75665015E3F9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05BDC-73B1-4309-BAB5-D39CAD12B97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24000" y="185400"/>
            <a:ext cx="7775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Gamma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operating        soon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    after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HESS               HESS-2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Array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GIC       Magic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hipple </a:t>
            </a:r>
            <a:r>
              <a:rPr b="1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Verita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GO/Y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AGIL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G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atellite:                                          GILDA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83720" y="4292640"/>
            <a:ext cx="28263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Ultimate 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      </a:t>
            </a: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2 x 1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5940360" y="2781000"/>
            <a:ext cx="1511280" cy="158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67640" y="1989000"/>
            <a:ext cx="217440" cy="1798920"/>
          </a:xfrm>
          <a:custGeom>
            <a:avLst/>
            <a:gdLst>
              <a:gd name="textAreaLeft" fmla="*/ 0 w 217440"/>
              <a:gd name="textAreaRight" fmla="*/ 78480 w 217440"/>
              <a:gd name="textAreaTop" fmla="*/ 46800 h 1798920"/>
              <a:gd name="textAreaBottom" fmla="*/ 1752120 h 179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029440" y="2492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96800" y="4365720"/>
            <a:ext cx="27457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Franklin Gothic Medium"/>
              </a:rPr>
              <a:t>price tag  5-12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780000" y="3789000"/>
            <a:ext cx="14256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976-28BE-4AA8-B601-D8906EA9D984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A1036-3AD3-451B-8915-4A1A2DED3C23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98560" y="1270080"/>
            <a:ext cx="7416720" cy="417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98560" y="3357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98560" y="436572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98560" y="2278080"/>
            <a:ext cx="741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800" y="5591160"/>
            <a:ext cx="75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960    1965    1970    1975    1980    1985    1990    1995    2000  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056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82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067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0692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9928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20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12000" y="5373720"/>
            <a:ext cx="0" cy="73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2840" y="3141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2840" y="213372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02840" y="11253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2840" y="42228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de-DE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67640" y="4006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95640" y="5373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14920" y="177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9280" y="2781360"/>
            <a:ext cx="1425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379080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114560" y="537372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8360" y="278136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22920" y="314172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3280" y="3214800"/>
            <a:ext cx="142920" cy="14436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357336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64000" y="537372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2709720"/>
            <a:ext cx="142920" cy="1447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443880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7640" y="472608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187280" y="3862080"/>
            <a:ext cx="1295640" cy="1584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130560" y="1846440"/>
            <a:ext cx="16574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82920" y="2854440"/>
            <a:ext cx="647640" cy="100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788000" y="1269720"/>
            <a:ext cx="1368360" cy="576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340000" y="3646440"/>
            <a:ext cx="1655640" cy="172872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88000" y="3214800"/>
            <a:ext cx="1008000" cy="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95640" y="3285720"/>
            <a:ext cx="71928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020000" y="2781000"/>
            <a:ext cx="718920" cy="7308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96000" y="2854080"/>
            <a:ext cx="1224000" cy="360360"/>
          </a:xfrm>
          <a:prstGeom prst="line">
            <a:avLst/>
          </a:prstGeom>
          <a:ln w="284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435640" y="4798800"/>
            <a:ext cx="863640" cy="647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020000" y="4078080"/>
            <a:ext cx="718920" cy="43164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299280" y="4509720"/>
            <a:ext cx="720720" cy="28908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38920" y="3860280"/>
            <a:ext cx="217800" cy="217800"/>
          </a:xfrm>
          <a:prstGeom prst="line">
            <a:avLst/>
          </a:prstGeom>
          <a:ln w="284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90160" y="1630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</a:rPr>
              <a:t>X 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97440" y="37180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7c80"/>
                </a:solidFill>
                <a:latin typeface="Arial"/>
              </a:rPr>
              <a:t>MeV-G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74520" y="47991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ffff"/>
                </a:solidFill>
                <a:latin typeface="Arial"/>
              </a:rPr>
              <a:t>0.1-1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920" y="333360"/>
            <a:ext cx="83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 Energy Photon Sky: Source Count vs.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63200" y="5950080"/>
            <a:ext cx="46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Arial"/>
              </a:rPr>
              <a:t>(modified from M. De Naurois, astro-ph/040936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885080" y="3789360"/>
            <a:ext cx="142920" cy="144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1D0E-0992-4B7C-96FA-FB28DF718D5A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56CA-50E8-42CF-A198-6FE75CA7F1D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68360" y="333360"/>
            <a:ext cx="689112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commendtions Neutrino Telesco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5" name=""/>
          <p:cNvSpPr/>
          <p:nvPr/>
        </p:nvSpPr>
        <p:spPr>
          <a:xfrm>
            <a:off x="320760" y="1125360"/>
            <a:ext cx="845496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the aim of constructing a detector of km3 scale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orthern hemisphere, both in view of size an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th IceCube: form a single coherent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llecting </a:t>
            </a: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the efforts under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pare report to ApPEC PRC with following inform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properties of water, incl. seasonal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d using the same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optical background and se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 comparative simulations about impact of depth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ater properties to some benchmark km3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focussing to the central goals of Nu Telesco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ingle design study in the European FP6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w review in one year (summer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20983800">
            <a:off x="7391160" y="549360"/>
            <a:ext cx="1483920" cy="459720"/>
          </a:xfrm>
          <a:prstGeom prst="rect">
            <a:avLst/>
          </a:prstGeom>
          <a:solidFill>
            <a:srgbClr val="fff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Jul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54C-DC91-4307-94DE-2DB20413F1F6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90A84-0027-4651-A427-89BAA49A3BB8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640" y="2060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ouble Bet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Dark Matter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Gamma Telesco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Neutrino Telescopes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ravitational 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gh Energy Cosmic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476280"/>
            <a:ext cx="6626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Reviewed in 2002-2005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5369400" y="1773360"/>
            <a:ext cx="341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ir: Riccardo Barb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E3F-46B1-4707-9F65-B6A1135376D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DB6AD-1842-4D2F-85D4-98ADF649C2BD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50920" y="-3960"/>
            <a:ext cx="889308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High Energy Neutrino Telesco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ikal-NT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de-DE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T200+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(Baikal GVD (2015)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eCube (2010)    HyperCube ?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(radio+acou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t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sto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Ne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M3 (20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tegration of radio and acoustic detection into optical telesco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Neutrino interactions in atmosphere (Auger,EUSO), in the moon (radio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tennas), .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8880" y="3573360"/>
            <a:ext cx="30610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50-3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787640" y="3068640"/>
            <a:ext cx="1368360" cy="503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508360" y="4005360"/>
            <a:ext cx="647640" cy="43164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6C3-1DBB-4983-94EF-473D55164CF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823F8-8CCF-48AD-89BC-1FF84C84EEFA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155080" cy="59785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05080" y="1052640"/>
            <a:ext cx="1081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21080" y="763560"/>
            <a:ext cx="4632120" cy="1360800"/>
            <a:chOff x="3421080" y="763560"/>
            <a:chExt cx="4632120" cy="1360800"/>
          </a:xfrm>
        </p:grpSpPr>
        <p:sp>
          <p:nvSpPr>
            <p:cNvPr id="364" name=""/>
            <p:cNvSpPr/>
            <p:nvPr/>
          </p:nvSpPr>
          <p:spPr>
            <a:xfrm>
              <a:off x="6086520" y="76356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50160" y="763560"/>
              <a:ext cx="110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G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21080" y="1725480"/>
              <a:ext cx="20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manda, Baik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562840" y="969840"/>
            <a:ext cx="5912640" cy="1416600"/>
            <a:chOff x="2562840" y="969840"/>
            <a:chExt cx="5912640" cy="1416600"/>
          </a:xfrm>
        </p:grpSpPr>
        <p:sp>
          <p:nvSpPr>
            <p:cNvPr id="368" name=""/>
            <p:cNvSpPr/>
            <p:nvPr/>
          </p:nvSpPr>
          <p:spPr>
            <a:xfrm>
              <a:off x="3324240" y="969840"/>
              <a:ext cx="5151240" cy="1290600"/>
            </a:xfrm>
            <a:custGeom>
              <a:avLst/>
              <a:gdLst/>
              <a:ahLst/>
              <a:rect l="l" t="t" r="r" b="b"/>
              <a:pathLst>
                <a:path w="3245" h="813">
                  <a:moveTo>
                    <a:pt x="0" y="804"/>
                  </a:moveTo>
                  <a:cubicBezTo>
                    <a:pt x="76" y="805"/>
                    <a:pt x="323" y="813"/>
                    <a:pt x="457" y="813"/>
                  </a:cubicBezTo>
                  <a:cubicBezTo>
                    <a:pt x="591" y="813"/>
                    <a:pt x="690" y="810"/>
                    <a:pt x="804" y="804"/>
                  </a:cubicBezTo>
                  <a:cubicBezTo>
                    <a:pt x="918" y="798"/>
                    <a:pt x="1032" y="794"/>
                    <a:pt x="1142" y="777"/>
                  </a:cubicBezTo>
                  <a:cubicBezTo>
                    <a:pt x="1252" y="760"/>
                    <a:pt x="1383" y="728"/>
                    <a:pt x="1462" y="704"/>
                  </a:cubicBezTo>
                  <a:cubicBezTo>
                    <a:pt x="1541" y="680"/>
                    <a:pt x="1575" y="661"/>
                    <a:pt x="1618" y="631"/>
                  </a:cubicBezTo>
                  <a:cubicBezTo>
                    <a:pt x="1661" y="601"/>
                    <a:pt x="1689" y="559"/>
                    <a:pt x="1718" y="521"/>
                  </a:cubicBezTo>
                  <a:cubicBezTo>
                    <a:pt x="1747" y="483"/>
                    <a:pt x="1769" y="448"/>
                    <a:pt x="1792" y="402"/>
                  </a:cubicBezTo>
                  <a:cubicBezTo>
                    <a:pt x="1815" y="356"/>
                    <a:pt x="1829" y="287"/>
                    <a:pt x="1856" y="247"/>
                  </a:cubicBezTo>
                  <a:cubicBezTo>
                    <a:pt x="1883" y="207"/>
                    <a:pt x="1913" y="176"/>
                    <a:pt x="1956" y="164"/>
                  </a:cubicBezTo>
                  <a:cubicBezTo>
                    <a:pt x="1999" y="152"/>
                    <a:pt x="2056" y="164"/>
                    <a:pt x="2112" y="173"/>
                  </a:cubicBezTo>
                  <a:cubicBezTo>
                    <a:pt x="2168" y="182"/>
                    <a:pt x="2224" y="213"/>
                    <a:pt x="2294" y="219"/>
                  </a:cubicBezTo>
                  <a:cubicBezTo>
                    <a:pt x="2364" y="225"/>
                    <a:pt x="2447" y="218"/>
                    <a:pt x="2532" y="210"/>
                  </a:cubicBezTo>
                  <a:cubicBezTo>
                    <a:pt x="2617" y="202"/>
                    <a:pt x="2721" y="191"/>
                    <a:pt x="2806" y="173"/>
                  </a:cubicBezTo>
                  <a:cubicBezTo>
                    <a:pt x="2891" y="155"/>
                    <a:pt x="2971" y="129"/>
                    <a:pt x="3044" y="100"/>
                  </a:cubicBezTo>
                  <a:cubicBezTo>
                    <a:pt x="3117" y="71"/>
                    <a:pt x="3203" y="21"/>
                    <a:pt x="3245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2840" y="19875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210480" y="2995560"/>
            <a:ext cx="5250960" cy="1084680"/>
            <a:chOff x="3210480" y="2995560"/>
            <a:chExt cx="5250960" cy="1084680"/>
          </a:xfrm>
        </p:grpSpPr>
        <p:sp>
          <p:nvSpPr>
            <p:cNvPr id="371" name=""/>
            <p:cNvSpPr/>
            <p:nvPr/>
          </p:nvSpPr>
          <p:spPr>
            <a:xfrm>
              <a:off x="3962520" y="2995560"/>
              <a:ext cx="4498920" cy="849240"/>
            </a:xfrm>
            <a:custGeom>
              <a:avLst/>
              <a:gdLst/>
              <a:ahLst/>
              <a:rect l="l" t="t" r="r" b="b"/>
              <a:pathLst>
                <a:path w="2834" h="535">
                  <a:moveTo>
                    <a:pt x="0" y="531"/>
                  </a:moveTo>
                  <a:cubicBezTo>
                    <a:pt x="81" y="529"/>
                    <a:pt x="335" y="535"/>
                    <a:pt x="484" y="521"/>
                  </a:cubicBezTo>
                  <a:cubicBezTo>
                    <a:pt x="633" y="507"/>
                    <a:pt x="786" y="483"/>
                    <a:pt x="896" y="448"/>
                  </a:cubicBezTo>
                  <a:cubicBezTo>
                    <a:pt x="1006" y="413"/>
                    <a:pt x="1078" y="352"/>
                    <a:pt x="1143" y="311"/>
                  </a:cubicBezTo>
                  <a:cubicBezTo>
                    <a:pt x="1208" y="270"/>
                    <a:pt x="1231" y="206"/>
                    <a:pt x="1289" y="201"/>
                  </a:cubicBezTo>
                  <a:cubicBezTo>
                    <a:pt x="1347" y="196"/>
                    <a:pt x="1425" y="271"/>
                    <a:pt x="1490" y="283"/>
                  </a:cubicBezTo>
                  <a:cubicBezTo>
                    <a:pt x="1555" y="295"/>
                    <a:pt x="1613" y="266"/>
                    <a:pt x="1682" y="274"/>
                  </a:cubicBezTo>
                  <a:cubicBezTo>
                    <a:pt x="1751" y="282"/>
                    <a:pt x="1820" y="324"/>
                    <a:pt x="1902" y="329"/>
                  </a:cubicBezTo>
                  <a:cubicBezTo>
                    <a:pt x="1984" y="334"/>
                    <a:pt x="2095" y="319"/>
                    <a:pt x="2176" y="302"/>
                  </a:cubicBezTo>
                  <a:cubicBezTo>
                    <a:pt x="2257" y="285"/>
                    <a:pt x="2325" y="253"/>
                    <a:pt x="2386" y="229"/>
                  </a:cubicBezTo>
                  <a:cubicBezTo>
                    <a:pt x="2447" y="205"/>
                    <a:pt x="2493" y="179"/>
                    <a:pt x="2542" y="155"/>
                  </a:cubicBezTo>
                  <a:cubicBezTo>
                    <a:pt x="2591" y="131"/>
                    <a:pt x="2630" y="108"/>
                    <a:pt x="2679" y="82"/>
                  </a:cubicBezTo>
                  <a:cubicBezTo>
                    <a:pt x="2728" y="56"/>
                    <a:pt x="2802" y="17"/>
                    <a:pt x="2834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10480" y="368136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946120" y="2995560"/>
            <a:ext cx="1369440" cy="440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AUGER </a:t>
            </a:r>
            <a:r>
              <a:rPr b="1" lang="de-DE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de-DE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237800" y="2708280"/>
            <a:ext cx="81792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429000"/>
            <a:ext cx="194436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manda,Antares, Baikal, N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73520" y="3645000"/>
            <a:ext cx="2997360" cy="1047600"/>
          </a:xfrm>
          <a:custGeom>
            <a:avLst/>
            <a:gdLst/>
            <a:ahLst/>
            <a:rect l="l" t="t" r="r" b="b"/>
            <a:pathLst>
              <a:path w="1888" h="660">
                <a:moveTo>
                  <a:pt x="0" y="657"/>
                </a:moveTo>
                <a:cubicBezTo>
                  <a:pt x="27" y="655"/>
                  <a:pt x="97" y="658"/>
                  <a:pt x="155" y="657"/>
                </a:cubicBezTo>
                <a:cubicBezTo>
                  <a:pt x="213" y="656"/>
                  <a:pt x="278" y="660"/>
                  <a:pt x="347" y="648"/>
                </a:cubicBezTo>
                <a:cubicBezTo>
                  <a:pt x="416" y="636"/>
                  <a:pt x="500" y="614"/>
                  <a:pt x="567" y="584"/>
                </a:cubicBezTo>
                <a:cubicBezTo>
                  <a:pt x="634" y="554"/>
                  <a:pt x="701" y="495"/>
                  <a:pt x="750" y="465"/>
                </a:cubicBezTo>
                <a:cubicBezTo>
                  <a:pt x="799" y="435"/>
                  <a:pt x="829" y="413"/>
                  <a:pt x="859" y="401"/>
                </a:cubicBezTo>
                <a:cubicBezTo>
                  <a:pt x="889" y="389"/>
                  <a:pt x="892" y="386"/>
                  <a:pt x="932" y="392"/>
                </a:cubicBezTo>
                <a:cubicBezTo>
                  <a:pt x="972" y="398"/>
                  <a:pt x="1041" y="430"/>
                  <a:pt x="1097" y="438"/>
                </a:cubicBezTo>
                <a:cubicBezTo>
                  <a:pt x="1153" y="446"/>
                  <a:pt x="1203" y="451"/>
                  <a:pt x="1271" y="438"/>
                </a:cubicBezTo>
                <a:cubicBezTo>
                  <a:pt x="1339" y="425"/>
                  <a:pt x="1445" y="385"/>
                  <a:pt x="1504" y="360"/>
                </a:cubicBezTo>
                <a:cubicBezTo>
                  <a:pt x="1563" y="335"/>
                  <a:pt x="1591" y="311"/>
                  <a:pt x="1624" y="288"/>
                </a:cubicBezTo>
                <a:cubicBezTo>
                  <a:pt x="1657" y="265"/>
                  <a:pt x="1676" y="251"/>
                  <a:pt x="1704" y="224"/>
                </a:cubicBezTo>
                <a:cubicBezTo>
                  <a:pt x="1732" y="197"/>
                  <a:pt x="1761" y="165"/>
                  <a:pt x="1792" y="128"/>
                </a:cubicBezTo>
                <a:cubicBezTo>
                  <a:pt x="1823" y="91"/>
                  <a:pt x="1868" y="27"/>
                  <a:pt x="1888" y="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81440" y="449748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861080" y="4869000"/>
            <a:ext cx="87624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97440" y="4508640"/>
            <a:ext cx="1584360" cy="673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 new tech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850120" y="1987560"/>
            <a:ext cx="5625360" cy="1398960"/>
            <a:chOff x="2850120" y="1987560"/>
            <a:chExt cx="5625360" cy="1398960"/>
          </a:xfrm>
        </p:grpSpPr>
        <p:sp>
          <p:nvSpPr>
            <p:cNvPr id="381" name=""/>
            <p:cNvSpPr/>
            <p:nvPr/>
          </p:nvSpPr>
          <p:spPr>
            <a:xfrm>
              <a:off x="2850120" y="2987640"/>
              <a:ext cx="74772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03240" y="1987560"/>
              <a:ext cx="1636200" cy="398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RICE  G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12960" y="2333520"/>
              <a:ext cx="4862520" cy="871560"/>
            </a:xfrm>
            <a:custGeom>
              <a:avLst/>
              <a:gdLst/>
              <a:ahLst/>
              <a:rect l="l" t="t" r="r" b="b"/>
              <a:pathLst>
                <a:path w="3063" h="549">
                  <a:moveTo>
                    <a:pt x="0" y="549"/>
                  </a:moveTo>
                  <a:cubicBezTo>
                    <a:pt x="76" y="546"/>
                    <a:pt x="301" y="544"/>
                    <a:pt x="458" y="530"/>
                  </a:cubicBezTo>
                  <a:cubicBezTo>
                    <a:pt x="615" y="516"/>
                    <a:pt x="799" y="501"/>
                    <a:pt x="942" y="466"/>
                  </a:cubicBezTo>
                  <a:cubicBezTo>
                    <a:pt x="1085" y="431"/>
                    <a:pt x="1201" y="381"/>
                    <a:pt x="1317" y="320"/>
                  </a:cubicBezTo>
                  <a:cubicBezTo>
                    <a:pt x="1433" y="259"/>
                    <a:pt x="1524" y="132"/>
                    <a:pt x="1637" y="101"/>
                  </a:cubicBezTo>
                  <a:cubicBezTo>
                    <a:pt x="1750" y="70"/>
                    <a:pt x="1881" y="131"/>
                    <a:pt x="1994" y="137"/>
                  </a:cubicBezTo>
                  <a:cubicBezTo>
                    <a:pt x="2107" y="143"/>
                    <a:pt x="2215" y="143"/>
                    <a:pt x="2314" y="137"/>
                  </a:cubicBezTo>
                  <a:cubicBezTo>
                    <a:pt x="2413" y="131"/>
                    <a:pt x="2503" y="113"/>
                    <a:pt x="2588" y="101"/>
                  </a:cubicBezTo>
                  <a:cubicBezTo>
                    <a:pt x="2673" y="89"/>
                    <a:pt x="2747" y="81"/>
                    <a:pt x="2826" y="64"/>
                  </a:cubicBezTo>
                  <a:cubicBezTo>
                    <a:pt x="2905" y="47"/>
                    <a:pt x="3014" y="13"/>
                    <a:pt x="3063" y="0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95280" y="189000"/>
            <a:ext cx="84996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Achieved and expected sensitivities to diffuse flu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2708280"/>
            <a:ext cx="122400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3CC-675E-4901-A319-3FE490011572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BECF32-9B3B-47BC-BA8C-5FE52490FD09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52360" y="765000"/>
            <a:ext cx="7056720" cy="5112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7440" y="5877000"/>
            <a:ext cx="76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    1985     1990     1995     2000      2005     2010   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240" y="83664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8160" y="53737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2960" y="378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4240" y="2349360"/>
            <a:ext cx="6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81440" y="1484280"/>
            <a:ext cx="13665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48000" y="1484280"/>
            <a:ext cx="792360" cy="865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40360" y="2349360"/>
            <a:ext cx="792000" cy="7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32360" y="3068640"/>
            <a:ext cx="1440000" cy="1440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7080" y="90792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92360" y="907920"/>
            <a:ext cx="28908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27920" y="4651200"/>
            <a:ext cx="1941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0-1000 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67280" y="1197000"/>
            <a:ext cx="1009440" cy="21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1413000"/>
            <a:ext cx="1079640" cy="107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56360" y="2492280"/>
            <a:ext cx="1511280" cy="136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819200" y="3571920"/>
            <a:ext cx="10098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 E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32000" y="979560"/>
            <a:ext cx="62150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man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jus  Macro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ikal/Amand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eCube/K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79000" y="906480"/>
            <a:ext cx="347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 AGASA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ice  G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ita, Au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9360" y="187200"/>
            <a:ext cx="39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Flux * E²  (GeV/ cm² sec 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01120" y="4581360"/>
            <a:ext cx="494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ensitivity to HE diff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utrino flu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6F94-F7CC-49F8-B1DF-14466C21B33B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4B5B6-FF4F-4888-9308-5AAAF7F3596A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-72720" y="106560"/>
            <a:ext cx="8867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Low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TRA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REAM                                ballo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TIC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AMELA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M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b) Towards the end of the galactic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Kascade-Grande  |2008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8..2010|  IceTop/IceCube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2006..2008|  Tunk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3080" y="2997360"/>
            <a:ext cx="239364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~20 M€, 200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87F-071A-4F71-907D-3FE58451C3E9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F75DE-6C60-41A6-9282-7E861FAA0895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79640" y="289440"/>
            <a:ext cx="7953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Cosmic Ray Experi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c) High and Ultra-high ener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uger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Auger North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a-D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ff9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USO (&gt; 2015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esterbork (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d) New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PES, Coda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OFAR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80000" y="2060640"/>
            <a:ext cx="144360" cy="9349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2276640"/>
            <a:ext cx="367344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~ 50 M€ per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788000" y="4653000"/>
            <a:ext cx="25923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125 M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292720" y="3860280"/>
            <a:ext cx="0" cy="792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D7A-8658-4DC8-BFC2-200D8ECA1263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4EB30-7701-4EE3-9305-5C973707108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Integrated Aper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55320" y="997200"/>
            <a:ext cx="7763400" cy="5468040"/>
            <a:chOff x="355320" y="997200"/>
            <a:chExt cx="7763400" cy="5468040"/>
          </a:xfrm>
        </p:grpSpPr>
        <p:sp>
          <p:nvSpPr>
            <p:cNvPr id="418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68360" y="46360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68360" y="345564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8360" y="227520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68360" y="109368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996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324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232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9328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460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55920" y="1093680"/>
              <a:ext cx="144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8724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8360" y="1093680"/>
              <a:ext cx="6518520" cy="4722840"/>
            </a:xfrm>
            <a:prstGeom prst="rect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68360" y="1093680"/>
              <a:ext cx="1080" cy="4722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15440" y="581652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15440" y="46360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15440" y="345564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15440" y="227520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5440" y="1093680"/>
              <a:ext cx="5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68360" y="5816520"/>
              <a:ext cx="6518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36836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2996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2324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16232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09328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02460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955920" y="5816160"/>
              <a:ext cx="144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887240" y="5816160"/>
              <a:ext cx="1080" cy="5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4480" y="5460840"/>
              <a:ext cx="187200" cy="355680"/>
            </a:xfrm>
            <a:custGeom>
              <a:avLst/>
              <a:gdLst/>
              <a:ahLst/>
              <a:rect l="l" t="t" r="r" b="b"/>
              <a:pathLst>
                <a:path w="248" h="477">
                  <a:moveTo>
                    <a:pt x="0" y="477"/>
                  </a:moveTo>
                  <a:lnTo>
                    <a:pt x="31" y="417"/>
                  </a:lnTo>
                  <a:lnTo>
                    <a:pt x="62" y="353"/>
                  </a:lnTo>
                  <a:lnTo>
                    <a:pt x="93" y="290"/>
                  </a:lnTo>
                  <a:lnTo>
                    <a:pt x="124" y="226"/>
                  </a:lnTo>
                  <a:lnTo>
                    <a:pt x="155" y="165"/>
                  </a:lnTo>
                  <a:lnTo>
                    <a:pt x="186" y="106"/>
                  </a:lnTo>
                  <a:lnTo>
                    <a:pt x="202" y="76"/>
                  </a:lnTo>
                  <a:lnTo>
                    <a:pt x="217" y="50"/>
                  </a:lnTo>
                  <a:lnTo>
                    <a:pt x="233" y="25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1680" y="525240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4"/>
                  </a:lnTo>
                  <a:lnTo>
                    <a:pt x="62" y="194"/>
                  </a:lnTo>
                  <a:lnTo>
                    <a:pt x="93" y="156"/>
                  </a:lnTo>
                  <a:lnTo>
                    <a:pt x="124" y="122"/>
                  </a:lnTo>
                  <a:lnTo>
                    <a:pt x="153" y="89"/>
                  </a:lnTo>
                  <a:lnTo>
                    <a:pt x="184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27800" y="5106600"/>
              <a:ext cx="186120" cy="145800"/>
            </a:xfrm>
            <a:custGeom>
              <a:avLst/>
              <a:gdLst/>
              <a:ahLst/>
              <a:rect l="l" t="t" r="r" b="b"/>
              <a:pathLst>
                <a:path w="246" h="198">
                  <a:moveTo>
                    <a:pt x="0" y="198"/>
                  </a:moveTo>
                  <a:lnTo>
                    <a:pt x="31" y="168"/>
                  </a:lnTo>
                  <a:lnTo>
                    <a:pt x="62" y="142"/>
                  </a:lnTo>
                  <a:lnTo>
                    <a:pt x="93" y="115"/>
                  </a:lnTo>
                  <a:lnTo>
                    <a:pt x="122" y="92"/>
                  </a:lnTo>
                  <a:lnTo>
                    <a:pt x="184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13920" y="4990680"/>
              <a:ext cx="185760" cy="115920"/>
            </a:xfrm>
            <a:custGeom>
              <a:avLst/>
              <a:gdLst/>
              <a:ahLst/>
              <a:rect l="l" t="t" r="r" b="b"/>
              <a:pathLst>
                <a:path w="246" h="155">
                  <a:moveTo>
                    <a:pt x="0" y="155"/>
                  </a:moveTo>
                  <a:lnTo>
                    <a:pt x="62" y="112"/>
                  </a:lnTo>
                  <a:lnTo>
                    <a:pt x="122" y="73"/>
                  </a:lnTo>
                  <a:lnTo>
                    <a:pt x="184" y="3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99680" y="4898160"/>
              <a:ext cx="187200" cy="92160"/>
            </a:xfrm>
            <a:custGeom>
              <a:avLst/>
              <a:gdLst/>
              <a:ahLst/>
              <a:rect l="l" t="t" r="r" b="b"/>
              <a:pathLst>
                <a:path w="247" h="125">
                  <a:moveTo>
                    <a:pt x="0" y="125"/>
                  </a:moveTo>
                  <a:lnTo>
                    <a:pt x="62" y="92"/>
                  </a:lnTo>
                  <a:lnTo>
                    <a:pt x="124" y="59"/>
                  </a:lnTo>
                  <a:lnTo>
                    <a:pt x="186" y="3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487240" y="481932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4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73000" y="475092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1">
                  <a:moveTo>
                    <a:pt x="0" y="91"/>
                  </a:moveTo>
                  <a:lnTo>
                    <a:pt x="62" y="68"/>
                  </a:ln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59120" y="4689720"/>
              <a:ext cx="185760" cy="60840"/>
            </a:xfrm>
            <a:custGeom>
              <a:avLst/>
              <a:gdLst/>
              <a:ahLst/>
              <a:rect l="l" t="t" r="r" b="b"/>
              <a:pathLst>
                <a:path w="247" h="81">
                  <a:moveTo>
                    <a:pt x="0" y="81"/>
                  </a:moveTo>
                  <a:lnTo>
                    <a:pt x="123" y="40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4880" y="4636080"/>
              <a:ext cx="187200" cy="53640"/>
            </a:xfrm>
            <a:custGeom>
              <a:avLst/>
              <a:gdLst/>
              <a:ahLst/>
              <a:rect l="l" t="t" r="r" b="b"/>
              <a:pathLst>
                <a:path w="247" h="74">
                  <a:moveTo>
                    <a:pt x="0" y="74"/>
                  </a:moveTo>
                  <a:lnTo>
                    <a:pt x="123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7240" y="4990680"/>
              <a:ext cx="185760" cy="356760"/>
            </a:xfrm>
            <a:custGeom>
              <a:avLst/>
              <a:gdLst/>
              <a:ahLst/>
              <a:rect l="l" t="t" r="r" b="b"/>
              <a:pathLst>
                <a:path w="246" h="479">
                  <a:moveTo>
                    <a:pt x="0" y="479"/>
                  </a:moveTo>
                  <a:lnTo>
                    <a:pt x="31" y="417"/>
                  </a:lnTo>
                  <a:lnTo>
                    <a:pt x="62" y="356"/>
                  </a:lnTo>
                  <a:lnTo>
                    <a:pt x="93" y="291"/>
                  </a:lnTo>
                  <a:lnTo>
                    <a:pt x="123" y="227"/>
                  </a:lnTo>
                  <a:lnTo>
                    <a:pt x="154" y="166"/>
                  </a:lnTo>
                  <a:lnTo>
                    <a:pt x="185" y="107"/>
                  </a:lnTo>
                  <a:lnTo>
                    <a:pt x="201" y="79"/>
                  </a:lnTo>
                  <a:lnTo>
                    <a:pt x="216" y="51"/>
                  </a:lnTo>
                  <a:lnTo>
                    <a:pt x="232" y="2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73000" y="4783680"/>
              <a:ext cx="186120" cy="206640"/>
            </a:xfrm>
            <a:custGeom>
              <a:avLst/>
              <a:gdLst/>
              <a:ahLst/>
              <a:rect l="l" t="t" r="r" b="b"/>
              <a:pathLst>
                <a:path w="246" h="278">
                  <a:moveTo>
                    <a:pt x="0" y="278"/>
                  </a:moveTo>
                  <a:lnTo>
                    <a:pt x="15" y="255"/>
                  </a:lnTo>
                  <a:lnTo>
                    <a:pt x="31" y="234"/>
                  </a:lnTo>
                  <a:lnTo>
                    <a:pt x="62" y="193"/>
                  </a:lnTo>
                  <a:lnTo>
                    <a:pt x="93" y="156"/>
                  </a:lnTo>
                  <a:lnTo>
                    <a:pt x="123" y="122"/>
                  </a:lnTo>
                  <a:lnTo>
                    <a:pt x="154" y="90"/>
                  </a:lnTo>
                  <a:lnTo>
                    <a:pt x="185" y="5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59120" y="4636080"/>
              <a:ext cx="185760" cy="14724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3" y="91"/>
                  </a:lnTo>
                  <a:lnTo>
                    <a:pt x="185" y="44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4880" y="4521600"/>
              <a:ext cx="187200" cy="11412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1" y="110"/>
                  </a:lnTo>
                  <a:lnTo>
                    <a:pt x="123" y="72"/>
                  </a:lnTo>
                  <a:lnTo>
                    <a:pt x="185" y="3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32440" y="442800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18200" y="4348800"/>
              <a:ext cx="186120" cy="7884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2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04320" y="4280400"/>
              <a:ext cx="18576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2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90080" y="4219560"/>
              <a:ext cx="186120" cy="6048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76200" y="4165920"/>
              <a:ext cx="18576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3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2320" y="4116600"/>
              <a:ext cx="185760" cy="48960"/>
            </a:xfrm>
            <a:custGeom>
              <a:avLst/>
              <a:gdLst/>
              <a:ahLst/>
              <a:rect l="l" t="t" r="r" b="b"/>
              <a:pathLst>
                <a:path w="246" h="67">
                  <a:moveTo>
                    <a:pt x="0" y="67"/>
                  </a:moveTo>
                  <a:lnTo>
                    <a:pt x="122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48080" y="4073400"/>
              <a:ext cx="18612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34200" y="4032000"/>
              <a:ext cx="187200" cy="41400"/>
            </a:xfrm>
            <a:custGeom>
              <a:avLst/>
              <a:gdLst/>
              <a:ahLst/>
              <a:rect l="l" t="t" r="r" b="b"/>
              <a:pathLst>
                <a:path w="247" h="56">
                  <a:moveTo>
                    <a:pt x="0" y="56"/>
                  </a:moveTo>
                  <a:lnTo>
                    <a:pt x="123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721760" y="3993120"/>
              <a:ext cx="185760" cy="38520"/>
            </a:xfrm>
            <a:custGeom>
              <a:avLst/>
              <a:gdLst/>
              <a:ahLst/>
              <a:rect l="l" t="t" r="r" b="b"/>
              <a:pathLst>
                <a:path w="246" h="51">
                  <a:moveTo>
                    <a:pt x="0" y="51"/>
                  </a:moveTo>
                  <a:lnTo>
                    <a:pt x="12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7520" y="3957120"/>
              <a:ext cx="185760" cy="35640"/>
            </a:xfrm>
            <a:custGeom>
              <a:avLst/>
              <a:gdLst/>
              <a:ahLst/>
              <a:rect l="l" t="t" r="r" b="b"/>
              <a:pathLst>
                <a:path w="246" h="47">
                  <a:moveTo>
                    <a:pt x="0" y="47"/>
                  </a:moveTo>
                  <a:lnTo>
                    <a:pt x="122" y="2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90080" y="4750920"/>
              <a:ext cx="186120" cy="501480"/>
            </a:xfrm>
            <a:custGeom>
              <a:avLst/>
              <a:gdLst/>
              <a:ahLst/>
              <a:rect l="l" t="t" r="r" b="b"/>
              <a:pathLst>
                <a:path w="248" h="675">
                  <a:moveTo>
                    <a:pt x="0" y="675"/>
                  </a:moveTo>
                  <a:lnTo>
                    <a:pt x="31" y="589"/>
                  </a:lnTo>
                  <a:lnTo>
                    <a:pt x="62" y="504"/>
                  </a:lnTo>
                  <a:lnTo>
                    <a:pt x="124" y="330"/>
                  </a:lnTo>
                  <a:lnTo>
                    <a:pt x="155" y="244"/>
                  </a:lnTo>
                  <a:lnTo>
                    <a:pt x="186" y="160"/>
                  </a:lnTo>
                  <a:lnTo>
                    <a:pt x="217" y="79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76200" y="4334040"/>
              <a:ext cx="185760" cy="416520"/>
            </a:xfrm>
            <a:custGeom>
              <a:avLst/>
              <a:gdLst/>
              <a:ahLst/>
              <a:rect l="l" t="t" r="r" b="b"/>
              <a:pathLst>
                <a:path w="246" h="560">
                  <a:moveTo>
                    <a:pt x="0" y="560"/>
                  </a:moveTo>
                  <a:lnTo>
                    <a:pt x="31" y="483"/>
                  </a:lnTo>
                  <a:lnTo>
                    <a:pt x="61" y="405"/>
                  </a:lnTo>
                  <a:lnTo>
                    <a:pt x="92" y="330"/>
                  </a:lnTo>
                  <a:lnTo>
                    <a:pt x="123" y="256"/>
                  </a:lnTo>
                  <a:lnTo>
                    <a:pt x="153" y="186"/>
                  </a:lnTo>
                  <a:lnTo>
                    <a:pt x="169" y="152"/>
                  </a:lnTo>
                  <a:lnTo>
                    <a:pt x="184" y="119"/>
                  </a:lnTo>
                  <a:lnTo>
                    <a:pt x="200" y="87"/>
                  </a:lnTo>
                  <a:lnTo>
                    <a:pt x="215" y="57"/>
                  </a:lnTo>
                  <a:lnTo>
                    <a:pt x="231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62320" y="4107960"/>
              <a:ext cx="185760" cy="226080"/>
            </a:xfrm>
            <a:custGeom>
              <a:avLst/>
              <a:gdLst/>
              <a:ahLst/>
              <a:rect l="l" t="t" r="r" b="b"/>
              <a:pathLst>
                <a:path w="246" h="304">
                  <a:moveTo>
                    <a:pt x="0" y="304"/>
                  </a:moveTo>
                  <a:lnTo>
                    <a:pt x="14" y="277"/>
                  </a:lnTo>
                  <a:lnTo>
                    <a:pt x="31" y="254"/>
                  </a:lnTo>
                  <a:lnTo>
                    <a:pt x="45" y="230"/>
                  </a:lnTo>
                  <a:lnTo>
                    <a:pt x="61" y="208"/>
                  </a:lnTo>
                  <a:lnTo>
                    <a:pt x="76" y="188"/>
                  </a:lnTo>
                  <a:lnTo>
                    <a:pt x="92" y="167"/>
                  </a:lnTo>
                  <a:lnTo>
                    <a:pt x="122" y="130"/>
                  </a:lnTo>
                  <a:lnTo>
                    <a:pt x="153" y="96"/>
                  </a:lnTo>
                  <a:lnTo>
                    <a:pt x="184" y="6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8080" y="3951720"/>
              <a:ext cx="186120" cy="156240"/>
            </a:xfrm>
            <a:custGeom>
              <a:avLst/>
              <a:gdLst/>
              <a:ahLst/>
              <a:rect l="l" t="t" r="r" b="b"/>
              <a:pathLst>
                <a:path w="246" h="210">
                  <a:moveTo>
                    <a:pt x="0" y="210"/>
                  </a:moveTo>
                  <a:lnTo>
                    <a:pt x="31" y="180"/>
                  </a:lnTo>
                  <a:lnTo>
                    <a:pt x="61" y="150"/>
                  </a:lnTo>
                  <a:lnTo>
                    <a:pt x="92" y="122"/>
                  </a:lnTo>
                  <a:lnTo>
                    <a:pt x="122" y="96"/>
                  </a:lnTo>
                  <a:lnTo>
                    <a:pt x="153" y="70"/>
                  </a:lnTo>
                  <a:lnTo>
                    <a:pt x="18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34200" y="3832560"/>
              <a:ext cx="187200" cy="1188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0" y="161"/>
                  </a:moveTo>
                  <a:lnTo>
                    <a:pt x="62" y="117"/>
                  </a:lnTo>
                  <a:lnTo>
                    <a:pt x="123" y="75"/>
                  </a:lnTo>
                  <a:lnTo>
                    <a:pt x="185" y="3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1760" y="3734280"/>
              <a:ext cx="185760" cy="97920"/>
            </a:xfrm>
            <a:custGeom>
              <a:avLst/>
              <a:gdLst/>
              <a:ahLst/>
              <a:rect l="l" t="t" r="r" b="b"/>
              <a:pathLst>
                <a:path w="246" h="131">
                  <a:moveTo>
                    <a:pt x="0" y="131"/>
                  </a:moveTo>
                  <a:lnTo>
                    <a:pt x="62" y="96"/>
                  </a:lnTo>
                  <a:lnTo>
                    <a:pt x="124" y="62"/>
                  </a:lnTo>
                  <a:lnTo>
                    <a:pt x="18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7520" y="3654000"/>
              <a:ext cx="185760" cy="80280"/>
            </a:xfrm>
            <a:custGeom>
              <a:avLst/>
              <a:gdLst/>
              <a:ahLst/>
              <a:rect l="l" t="t" r="r" b="b"/>
              <a:pathLst>
                <a:path w="246" h="109">
                  <a:moveTo>
                    <a:pt x="0" y="109"/>
                  </a:moveTo>
                  <a:lnTo>
                    <a:pt x="62" y="80"/>
                  </a:lnTo>
                  <a:lnTo>
                    <a:pt x="122" y="52"/>
                  </a:lnTo>
                  <a:lnTo>
                    <a:pt x="184" y="2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93280" y="3582360"/>
              <a:ext cx="186120" cy="71280"/>
            </a:xfrm>
            <a:custGeom>
              <a:avLst/>
              <a:gdLst/>
              <a:ahLst/>
              <a:rect l="l" t="t" r="r" b="b"/>
              <a:pathLst>
                <a:path w="246" h="94">
                  <a:moveTo>
                    <a:pt x="0" y="94"/>
                  </a:moveTo>
                  <a:lnTo>
                    <a:pt x="62" y="69"/>
                  </a:lnTo>
                  <a:lnTo>
                    <a:pt x="122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79400" y="3519720"/>
              <a:ext cx="187200" cy="62280"/>
            </a:xfrm>
            <a:custGeom>
              <a:avLst/>
              <a:gdLst/>
              <a:ahLst/>
              <a:rect l="l" t="t" r="r" b="b"/>
              <a:pathLst>
                <a:path w="248" h="84">
                  <a:moveTo>
                    <a:pt x="0" y="84"/>
                  </a:moveTo>
                  <a:lnTo>
                    <a:pt x="62" y="62"/>
                  </a:lnTo>
                  <a:lnTo>
                    <a:pt x="124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66960" y="3924720"/>
              <a:ext cx="185760" cy="711360"/>
            </a:xfrm>
            <a:custGeom>
              <a:avLst/>
              <a:gdLst/>
              <a:ahLst/>
              <a:rect l="l" t="t" r="r" b="b"/>
              <a:pathLst>
                <a:path w="246" h="955">
                  <a:moveTo>
                    <a:pt x="0" y="955"/>
                  </a:moveTo>
                  <a:lnTo>
                    <a:pt x="31" y="834"/>
                  </a:lnTo>
                  <a:lnTo>
                    <a:pt x="62" y="713"/>
                  </a:lnTo>
                  <a:lnTo>
                    <a:pt x="93" y="591"/>
                  </a:lnTo>
                  <a:lnTo>
                    <a:pt x="122" y="469"/>
                  </a:lnTo>
                  <a:lnTo>
                    <a:pt x="153" y="348"/>
                  </a:lnTo>
                  <a:lnTo>
                    <a:pt x="184" y="229"/>
                  </a:lnTo>
                  <a:lnTo>
                    <a:pt x="215" y="112"/>
                  </a:lnTo>
                  <a:lnTo>
                    <a:pt x="231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652720" y="3320280"/>
              <a:ext cx="185760" cy="604080"/>
            </a:xfrm>
            <a:custGeom>
              <a:avLst/>
              <a:gdLst/>
              <a:ahLst/>
              <a:rect l="l" t="t" r="r" b="b"/>
              <a:pathLst>
                <a:path w="246" h="811">
                  <a:moveTo>
                    <a:pt x="0" y="811"/>
                  </a:moveTo>
                  <a:lnTo>
                    <a:pt x="31" y="699"/>
                  </a:lnTo>
                  <a:lnTo>
                    <a:pt x="62" y="587"/>
                  </a:lnTo>
                  <a:lnTo>
                    <a:pt x="93" y="477"/>
                  </a:lnTo>
                  <a:lnTo>
                    <a:pt x="107" y="422"/>
                  </a:lnTo>
                  <a:lnTo>
                    <a:pt x="122" y="368"/>
                  </a:lnTo>
                  <a:lnTo>
                    <a:pt x="138" y="316"/>
                  </a:lnTo>
                  <a:lnTo>
                    <a:pt x="153" y="265"/>
                  </a:lnTo>
                  <a:lnTo>
                    <a:pt x="169" y="215"/>
                  </a:lnTo>
                  <a:lnTo>
                    <a:pt x="184" y="168"/>
                  </a:lnTo>
                  <a:lnTo>
                    <a:pt x="200" y="122"/>
                  </a:lnTo>
                  <a:lnTo>
                    <a:pt x="215" y="79"/>
                  </a:lnTo>
                  <a:lnTo>
                    <a:pt x="231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38480" y="3051000"/>
              <a:ext cx="186120" cy="269280"/>
            </a:xfrm>
            <a:custGeom>
              <a:avLst/>
              <a:gdLst/>
              <a:ahLst/>
              <a:rect l="l" t="t" r="r" b="b"/>
              <a:pathLst>
                <a:path w="246" h="363">
                  <a:moveTo>
                    <a:pt x="0" y="363"/>
                  </a:moveTo>
                  <a:lnTo>
                    <a:pt x="14" y="327"/>
                  </a:lnTo>
                  <a:lnTo>
                    <a:pt x="31" y="295"/>
                  </a:lnTo>
                  <a:lnTo>
                    <a:pt x="45" y="265"/>
                  </a:lnTo>
                  <a:lnTo>
                    <a:pt x="62" y="237"/>
                  </a:lnTo>
                  <a:lnTo>
                    <a:pt x="76" y="212"/>
                  </a:lnTo>
                  <a:lnTo>
                    <a:pt x="93" y="189"/>
                  </a:lnTo>
                  <a:lnTo>
                    <a:pt x="107" y="167"/>
                  </a:lnTo>
                  <a:lnTo>
                    <a:pt x="122" y="146"/>
                  </a:lnTo>
                  <a:lnTo>
                    <a:pt x="138" y="125"/>
                  </a:lnTo>
                  <a:lnTo>
                    <a:pt x="153" y="108"/>
                  </a:lnTo>
                  <a:lnTo>
                    <a:pt x="184" y="71"/>
                  </a:lnTo>
                  <a:lnTo>
                    <a:pt x="215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24600" y="2873880"/>
              <a:ext cx="187200" cy="177120"/>
            </a:xfrm>
            <a:custGeom>
              <a:avLst/>
              <a:gdLst/>
              <a:ahLst/>
              <a:rect l="l" t="t" r="r" b="b"/>
              <a:pathLst>
                <a:path w="247" h="237">
                  <a:moveTo>
                    <a:pt x="0" y="237"/>
                  </a:moveTo>
                  <a:lnTo>
                    <a:pt x="31" y="202"/>
                  </a:lnTo>
                  <a:lnTo>
                    <a:pt x="62" y="168"/>
                  </a:lnTo>
                  <a:lnTo>
                    <a:pt x="93" y="137"/>
                  </a:lnTo>
                  <a:lnTo>
                    <a:pt x="124" y="107"/>
                  </a:lnTo>
                  <a:lnTo>
                    <a:pt x="154" y="80"/>
                  </a:lnTo>
                  <a:lnTo>
                    <a:pt x="185" y="52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12160" y="2744640"/>
              <a:ext cx="185760" cy="129240"/>
            </a:xfrm>
            <a:custGeom>
              <a:avLst/>
              <a:gdLst/>
              <a:ahLst/>
              <a:rect l="l" t="t" r="r" b="b"/>
              <a:pathLst>
                <a:path w="246" h="175">
                  <a:moveTo>
                    <a:pt x="0" y="175"/>
                  </a:moveTo>
                  <a:lnTo>
                    <a:pt x="31" y="150"/>
                  </a:lnTo>
                  <a:lnTo>
                    <a:pt x="62" y="126"/>
                  </a:lnTo>
                  <a:lnTo>
                    <a:pt x="124" y="81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97920" y="2640240"/>
              <a:ext cx="185760" cy="104040"/>
            </a:xfrm>
            <a:custGeom>
              <a:avLst/>
              <a:gdLst/>
              <a:ahLst/>
              <a:rect l="l" t="t" r="r" b="b"/>
              <a:pathLst>
                <a:path w="246" h="140">
                  <a:moveTo>
                    <a:pt x="0" y="140"/>
                  </a:moveTo>
                  <a:lnTo>
                    <a:pt x="62" y="101"/>
                  </a:lnTo>
                  <a:lnTo>
                    <a:pt x="123" y="66"/>
                  </a:lnTo>
                  <a:lnTo>
                    <a:pt x="184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83680" y="2553840"/>
              <a:ext cx="186120" cy="86400"/>
            </a:xfrm>
            <a:custGeom>
              <a:avLst/>
              <a:gdLst/>
              <a:ahLst/>
              <a:rect l="l" t="t" r="r" b="b"/>
              <a:pathLst>
                <a:path w="246" h="117">
                  <a:moveTo>
                    <a:pt x="0" y="117"/>
                  </a:moveTo>
                  <a:lnTo>
                    <a:pt x="62" y="86"/>
                  </a:lnTo>
                  <a:lnTo>
                    <a:pt x="123" y="56"/>
                  </a:lnTo>
                  <a:lnTo>
                    <a:pt x="184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70160" y="2479680"/>
              <a:ext cx="185760" cy="74160"/>
            </a:xfrm>
            <a:custGeom>
              <a:avLst/>
              <a:gdLst/>
              <a:ahLst/>
              <a:rect l="l" t="t" r="r" b="b"/>
              <a:pathLst>
                <a:path w="248" h="98">
                  <a:moveTo>
                    <a:pt x="0" y="98"/>
                  </a:moveTo>
                  <a:lnTo>
                    <a:pt x="62" y="72"/>
                  </a:lnTo>
                  <a:lnTo>
                    <a:pt x="124" y="4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5920" y="2415240"/>
              <a:ext cx="186120" cy="64080"/>
            </a:xfrm>
            <a:custGeom>
              <a:avLst/>
              <a:gdLst/>
              <a:ahLst/>
              <a:rect l="l" t="t" r="r" b="b"/>
              <a:pathLst>
                <a:path w="246" h="87">
                  <a:moveTo>
                    <a:pt x="0" y="87"/>
                  </a:moveTo>
                  <a:lnTo>
                    <a:pt x="124" y="4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2040" y="2358720"/>
              <a:ext cx="18576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62" y="57"/>
                  </a:lnTo>
                  <a:lnTo>
                    <a:pt x="122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9"/>
                  </a:lnTo>
                  <a:lnTo>
                    <a:pt x="77" y="296"/>
                  </a:lnTo>
                  <a:lnTo>
                    <a:pt x="93" y="265"/>
                  </a:lnTo>
                  <a:lnTo>
                    <a:pt x="108" y="236"/>
                  </a:lnTo>
                  <a:lnTo>
                    <a:pt x="122" y="208"/>
                  </a:lnTo>
                  <a:lnTo>
                    <a:pt x="153" y="155"/>
                  </a:lnTo>
                  <a:lnTo>
                    <a:pt x="184" y="103"/>
                  </a:lnTo>
                  <a:lnTo>
                    <a:pt x="215" y="5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79400" y="3006360"/>
              <a:ext cx="187200" cy="276480"/>
            </a:xfrm>
            <a:custGeom>
              <a:avLst/>
              <a:gdLst/>
              <a:ahLst/>
              <a:rect l="l" t="t" r="r" b="b"/>
              <a:pathLst>
                <a:path w="248" h="371">
                  <a:moveTo>
                    <a:pt x="0" y="371"/>
                  </a:moveTo>
                  <a:lnTo>
                    <a:pt x="31" y="319"/>
                  </a:lnTo>
                  <a:lnTo>
                    <a:pt x="62" y="268"/>
                  </a:lnTo>
                  <a:lnTo>
                    <a:pt x="93" y="219"/>
                  </a:lnTo>
                  <a:lnTo>
                    <a:pt x="124" y="174"/>
                  </a:lnTo>
                  <a:lnTo>
                    <a:pt x="155" y="128"/>
                  </a:lnTo>
                  <a:lnTo>
                    <a:pt x="186" y="84"/>
                  </a:lnTo>
                  <a:lnTo>
                    <a:pt x="217" y="41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66960" y="2799360"/>
              <a:ext cx="185760" cy="206640"/>
            </a:xfrm>
            <a:custGeom>
              <a:avLst/>
              <a:gdLst/>
              <a:ahLst/>
              <a:rect l="l" t="t" r="r" b="b"/>
              <a:pathLst>
                <a:path w="246" h="279">
                  <a:moveTo>
                    <a:pt x="0" y="279"/>
                  </a:moveTo>
                  <a:lnTo>
                    <a:pt x="31" y="239"/>
                  </a:lnTo>
                  <a:lnTo>
                    <a:pt x="62" y="202"/>
                  </a:lnTo>
                  <a:lnTo>
                    <a:pt x="93" y="168"/>
                  </a:lnTo>
                  <a:lnTo>
                    <a:pt x="123" y="134"/>
                  </a:lnTo>
                  <a:lnTo>
                    <a:pt x="184" y="68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52720" y="2590920"/>
              <a:ext cx="185760" cy="20844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31" y="245"/>
                  </a:lnTo>
                  <a:lnTo>
                    <a:pt x="62" y="208"/>
                  </a:lnTo>
                  <a:lnTo>
                    <a:pt x="122" y="136"/>
                  </a:lnTo>
                  <a:lnTo>
                    <a:pt x="153" y="99"/>
                  </a:lnTo>
                  <a:lnTo>
                    <a:pt x="184" y="65"/>
                  </a:lnTo>
                  <a:lnTo>
                    <a:pt x="215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8480" y="2442240"/>
              <a:ext cx="186120" cy="148680"/>
            </a:xfrm>
            <a:custGeom>
              <a:avLst/>
              <a:gdLst/>
              <a:ahLst/>
              <a:rect l="l" t="t" r="r" b="b"/>
              <a:pathLst>
                <a:path w="246" h="199">
                  <a:moveTo>
                    <a:pt x="0" y="199"/>
                  </a:moveTo>
                  <a:lnTo>
                    <a:pt x="31" y="170"/>
                  </a:lnTo>
                  <a:lnTo>
                    <a:pt x="62" y="143"/>
                  </a:lnTo>
                  <a:lnTo>
                    <a:pt x="93" y="117"/>
                  </a:lnTo>
                  <a:lnTo>
                    <a:pt x="122" y="92"/>
                  </a:lnTo>
                  <a:lnTo>
                    <a:pt x="184" y="4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4600" y="2328840"/>
              <a:ext cx="187200" cy="113040"/>
            </a:xfrm>
            <a:custGeom>
              <a:avLst/>
              <a:gdLst/>
              <a:ahLst/>
              <a:rect l="l" t="t" r="r" b="b"/>
              <a:pathLst>
                <a:path w="247" h="153">
                  <a:moveTo>
                    <a:pt x="0" y="153"/>
                  </a:moveTo>
                  <a:lnTo>
                    <a:pt x="62" y="111"/>
                  </a:lnTo>
                  <a:lnTo>
                    <a:pt x="124" y="72"/>
                  </a:lnTo>
                  <a:lnTo>
                    <a:pt x="185" y="36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2160" y="2235240"/>
              <a:ext cx="185760" cy="93600"/>
            </a:xfrm>
            <a:custGeom>
              <a:avLst/>
              <a:gdLst/>
              <a:ahLst/>
              <a:rect l="l" t="t" r="r" b="b"/>
              <a:pathLst>
                <a:path w="246" h="125">
                  <a:moveTo>
                    <a:pt x="0" y="125"/>
                  </a:moveTo>
                  <a:lnTo>
                    <a:pt x="62" y="91"/>
                  </a:lnTo>
                  <a:lnTo>
                    <a:pt x="124" y="59"/>
                  </a:lnTo>
                  <a:lnTo>
                    <a:pt x="184" y="2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97920" y="2156400"/>
              <a:ext cx="185760" cy="78480"/>
            </a:xfrm>
            <a:custGeom>
              <a:avLst/>
              <a:gdLst/>
              <a:ahLst/>
              <a:rect l="l" t="t" r="r" b="b"/>
              <a:pathLst>
                <a:path w="246" h="106">
                  <a:moveTo>
                    <a:pt x="0" y="106"/>
                  </a:moveTo>
                  <a:lnTo>
                    <a:pt x="62" y="78"/>
                  </a:lnTo>
                  <a:lnTo>
                    <a:pt x="123" y="5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583680" y="2088000"/>
              <a:ext cx="186120" cy="68400"/>
            </a:xfrm>
            <a:custGeom>
              <a:avLst/>
              <a:gdLst/>
              <a:ahLst/>
              <a:rect l="l" t="t" r="r" b="b"/>
              <a:pathLst>
                <a:path w="246" h="93">
                  <a:moveTo>
                    <a:pt x="0" y="93"/>
                  </a:moveTo>
                  <a:lnTo>
                    <a:pt x="123" y="4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70160" y="2026800"/>
              <a:ext cx="185760" cy="60840"/>
            </a:xfrm>
            <a:custGeom>
              <a:avLst/>
              <a:gdLst/>
              <a:ahLst/>
              <a:rect l="l" t="t" r="r" b="b"/>
              <a:pathLst>
                <a:path w="248" h="81">
                  <a:moveTo>
                    <a:pt x="0" y="81"/>
                  </a:moveTo>
                  <a:lnTo>
                    <a:pt x="124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55920" y="1973160"/>
              <a:ext cx="186120" cy="53640"/>
            </a:xfrm>
            <a:custGeom>
              <a:avLst/>
              <a:gdLst/>
              <a:ahLst/>
              <a:rect l="l" t="t" r="r" b="b"/>
              <a:pathLst>
                <a:path w="246" h="72">
                  <a:moveTo>
                    <a:pt x="0" y="72"/>
                  </a:moveTo>
                  <a:lnTo>
                    <a:pt x="124" y="35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42040" y="1924200"/>
              <a:ext cx="185760" cy="48600"/>
            </a:xfrm>
            <a:custGeom>
              <a:avLst/>
              <a:gdLst/>
              <a:ahLst/>
              <a:rect l="l" t="t" r="r" b="b"/>
              <a:pathLst>
                <a:path w="246" h="66">
                  <a:moveTo>
                    <a:pt x="0" y="66"/>
                  </a:moveTo>
                  <a:lnTo>
                    <a:pt x="122" y="32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21760" y="4280400"/>
              <a:ext cx="185760" cy="1067040"/>
            </a:xfrm>
            <a:custGeom>
              <a:avLst/>
              <a:gdLst/>
              <a:ahLst/>
              <a:rect l="l" t="t" r="r" b="b"/>
              <a:pathLst>
                <a:path w="246" h="1433">
                  <a:moveTo>
                    <a:pt x="0" y="1433"/>
                  </a:moveTo>
                  <a:lnTo>
                    <a:pt x="15" y="1342"/>
                  </a:lnTo>
                  <a:lnTo>
                    <a:pt x="31" y="1251"/>
                  </a:lnTo>
                  <a:lnTo>
                    <a:pt x="46" y="1156"/>
                  </a:lnTo>
                  <a:lnTo>
                    <a:pt x="62" y="1062"/>
                  </a:lnTo>
                  <a:lnTo>
                    <a:pt x="93" y="871"/>
                  </a:lnTo>
                  <a:lnTo>
                    <a:pt x="108" y="775"/>
                  </a:lnTo>
                  <a:lnTo>
                    <a:pt x="122" y="680"/>
                  </a:lnTo>
                  <a:lnTo>
                    <a:pt x="139" y="588"/>
                  </a:lnTo>
                  <a:lnTo>
                    <a:pt x="153" y="496"/>
                  </a:lnTo>
                  <a:lnTo>
                    <a:pt x="170" y="405"/>
                  </a:lnTo>
                  <a:lnTo>
                    <a:pt x="184" y="318"/>
                  </a:lnTo>
                  <a:lnTo>
                    <a:pt x="200" y="233"/>
                  </a:lnTo>
                  <a:lnTo>
                    <a:pt x="215" y="152"/>
                  </a:lnTo>
                  <a:lnTo>
                    <a:pt x="231" y="73"/>
                  </a:lnTo>
                  <a:lnTo>
                    <a:pt x="239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07520" y="3637440"/>
              <a:ext cx="185760" cy="642960"/>
            </a:xfrm>
            <a:custGeom>
              <a:avLst/>
              <a:gdLst/>
              <a:ahLst/>
              <a:rect l="l" t="t" r="r" b="b"/>
              <a:pathLst>
                <a:path w="246" h="864">
                  <a:moveTo>
                    <a:pt x="0" y="864"/>
                  </a:moveTo>
                  <a:lnTo>
                    <a:pt x="15" y="793"/>
                  </a:lnTo>
                  <a:lnTo>
                    <a:pt x="31" y="725"/>
                  </a:lnTo>
                  <a:lnTo>
                    <a:pt x="46" y="660"/>
                  </a:lnTo>
                  <a:lnTo>
                    <a:pt x="62" y="599"/>
                  </a:lnTo>
                  <a:lnTo>
                    <a:pt x="77" y="538"/>
                  </a:lnTo>
                  <a:lnTo>
                    <a:pt x="93" y="481"/>
                  </a:lnTo>
                  <a:lnTo>
                    <a:pt x="108" y="426"/>
                  </a:lnTo>
                  <a:lnTo>
                    <a:pt x="122" y="372"/>
                  </a:lnTo>
                  <a:lnTo>
                    <a:pt x="139" y="320"/>
                  </a:lnTo>
                  <a:lnTo>
                    <a:pt x="153" y="271"/>
                  </a:lnTo>
                  <a:lnTo>
                    <a:pt x="170" y="223"/>
                  </a:lnTo>
                  <a:lnTo>
                    <a:pt x="184" y="176"/>
                  </a:lnTo>
                  <a:lnTo>
                    <a:pt x="201" y="130"/>
                  </a:lnTo>
                  <a:lnTo>
                    <a:pt x="215" y="8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93280" y="3283200"/>
              <a:ext cx="186120" cy="353880"/>
            </a:xfrm>
            <a:custGeom>
              <a:avLst/>
              <a:gdLst/>
              <a:ahLst/>
              <a:rect l="l" t="t" r="r" b="b"/>
              <a:pathLst>
                <a:path w="246" h="477">
                  <a:moveTo>
                    <a:pt x="0" y="477"/>
                  </a:moveTo>
                  <a:lnTo>
                    <a:pt x="15" y="436"/>
                  </a:lnTo>
                  <a:lnTo>
                    <a:pt x="31" y="398"/>
                  </a:lnTo>
                  <a:lnTo>
                    <a:pt x="46" y="362"/>
                  </a:lnTo>
                  <a:lnTo>
                    <a:pt x="62" y="327"/>
                  </a:lnTo>
                  <a:lnTo>
                    <a:pt x="77" y="295"/>
                  </a:lnTo>
                  <a:lnTo>
                    <a:pt x="93" y="264"/>
                  </a:lnTo>
                  <a:lnTo>
                    <a:pt x="108" y="234"/>
                  </a:lnTo>
                  <a:lnTo>
                    <a:pt x="122" y="206"/>
                  </a:lnTo>
                  <a:lnTo>
                    <a:pt x="153" y="152"/>
                  </a:lnTo>
                  <a:lnTo>
                    <a:pt x="184" y="100"/>
                  </a:lnTo>
                  <a:lnTo>
                    <a:pt x="215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79400" y="3028680"/>
              <a:ext cx="187200" cy="25416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0" y="342"/>
                  </a:moveTo>
                  <a:lnTo>
                    <a:pt x="31" y="292"/>
                  </a:lnTo>
                  <a:lnTo>
                    <a:pt x="62" y="245"/>
                  </a:lnTo>
                  <a:lnTo>
                    <a:pt x="93" y="199"/>
                  </a:lnTo>
                  <a:lnTo>
                    <a:pt x="124" y="155"/>
                  </a:lnTo>
                  <a:lnTo>
                    <a:pt x="155" y="114"/>
                  </a:lnTo>
                  <a:lnTo>
                    <a:pt x="186" y="74"/>
                  </a:lnTo>
                  <a:lnTo>
                    <a:pt x="217" y="37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66960" y="2858760"/>
              <a:ext cx="185760" cy="169560"/>
            </a:xfrm>
            <a:custGeom>
              <a:avLst/>
              <a:gdLst/>
              <a:ahLst/>
              <a:rect l="l" t="t" r="r" b="b"/>
              <a:pathLst>
                <a:path w="246" h="227">
                  <a:moveTo>
                    <a:pt x="0" y="227"/>
                  </a:moveTo>
                  <a:lnTo>
                    <a:pt x="31" y="193"/>
                  </a:lnTo>
                  <a:lnTo>
                    <a:pt x="62" y="161"/>
                  </a:lnTo>
                  <a:lnTo>
                    <a:pt x="93" y="131"/>
                  </a:lnTo>
                  <a:lnTo>
                    <a:pt x="123" y="103"/>
                  </a:lnTo>
                  <a:lnTo>
                    <a:pt x="153" y="77"/>
                  </a:lnTo>
                  <a:lnTo>
                    <a:pt x="184" y="5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2720" y="2732400"/>
              <a:ext cx="185760" cy="126360"/>
            </a:xfrm>
            <a:custGeom>
              <a:avLst/>
              <a:gdLst/>
              <a:ahLst/>
              <a:rect l="l" t="t" r="r" b="b"/>
              <a:pathLst>
                <a:path w="246" h="171">
                  <a:moveTo>
                    <a:pt x="0" y="171"/>
                  </a:moveTo>
                  <a:lnTo>
                    <a:pt x="31" y="148"/>
                  </a:lnTo>
                  <a:lnTo>
                    <a:pt x="62" y="124"/>
                  </a:lnTo>
                  <a:lnTo>
                    <a:pt x="122" y="80"/>
                  </a:lnTo>
                  <a:lnTo>
                    <a:pt x="184" y="3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8480" y="2629800"/>
              <a:ext cx="186120" cy="102600"/>
            </a:xfrm>
            <a:custGeom>
              <a:avLst/>
              <a:gdLst/>
              <a:ahLst/>
              <a:rect l="l" t="t" r="r" b="b"/>
              <a:pathLst>
                <a:path w="246" h="137">
                  <a:moveTo>
                    <a:pt x="0" y="137"/>
                  </a:moveTo>
                  <a:lnTo>
                    <a:pt x="62" y="101"/>
                  </a:lnTo>
                  <a:lnTo>
                    <a:pt x="122" y="65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24600" y="2545200"/>
              <a:ext cx="187200" cy="84600"/>
            </a:xfrm>
            <a:custGeom>
              <a:avLst/>
              <a:gdLst/>
              <a:ahLst/>
              <a:rect l="l" t="t" r="r" b="b"/>
              <a:pathLst>
                <a:path w="247" h="115">
                  <a:moveTo>
                    <a:pt x="0" y="115"/>
                  </a:moveTo>
                  <a:lnTo>
                    <a:pt x="62" y="84"/>
                  </a:lnTo>
                  <a:lnTo>
                    <a:pt x="124" y="55"/>
                  </a:lnTo>
                  <a:lnTo>
                    <a:pt x="185" y="27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12160" y="2472120"/>
              <a:ext cx="185760" cy="72720"/>
            </a:xfrm>
            <a:custGeom>
              <a:avLst/>
              <a:gdLst/>
              <a:ahLst/>
              <a:rect l="l" t="t" r="r" b="b"/>
              <a:pathLst>
                <a:path w="246" h="97">
                  <a:moveTo>
                    <a:pt x="0" y="97"/>
                  </a:moveTo>
                  <a:lnTo>
                    <a:pt x="62" y="71"/>
                  </a:lnTo>
                  <a:lnTo>
                    <a:pt x="124" y="4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397920" y="2408040"/>
              <a:ext cx="185760" cy="64080"/>
            </a:xfrm>
            <a:custGeom>
              <a:avLst/>
              <a:gdLst/>
              <a:ahLst/>
              <a:rect l="l" t="t" r="r" b="b"/>
              <a:pathLst>
                <a:path w="246" h="85">
                  <a:moveTo>
                    <a:pt x="0" y="85"/>
                  </a:moveTo>
                  <a:lnTo>
                    <a:pt x="123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83680" y="2351160"/>
              <a:ext cx="186120" cy="56520"/>
            </a:xfrm>
            <a:custGeom>
              <a:avLst/>
              <a:gdLst/>
              <a:ahLst/>
              <a:rect l="l" t="t" r="r" b="b"/>
              <a:pathLst>
                <a:path w="246" h="77">
                  <a:moveTo>
                    <a:pt x="0" y="77"/>
                  </a:moveTo>
                  <a:lnTo>
                    <a:pt x="123" y="37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70160" y="230076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68">
                  <a:moveTo>
                    <a:pt x="0" y="68"/>
                  </a:moveTo>
                  <a:lnTo>
                    <a:pt x="124" y="33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55920" y="2254680"/>
              <a:ext cx="186120" cy="457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142040" y="2212920"/>
              <a:ext cx="185760" cy="41760"/>
            </a:xfrm>
            <a:custGeom>
              <a:avLst/>
              <a:gdLst/>
              <a:ahLst/>
              <a:rect l="l" t="t" r="r" b="b"/>
              <a:pathLst>
                <a:path w="246" h="56">
                  <a:moveTo>
                    <a:pt x="0" y="56"/>
                  </a:moveTo>
                  <a:lnTo>
                    <a:pt x="122" y="2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24600" y="2275200"/>
              <a:ext cx="187200" cy="354240"/>
            </a:xfrm>
            <a:custGeom>
              <a:avLst/>
              <a:gdLst/>
              <a:ahLst/>
              <a:rect l="l" t="t" r="r" b="b"/>
              <a:pathLst>
                <a:path w="247" h="477">
                  <a:moveTo>
                    <a:pt x="0" y="477"/>
                  </a:moveTo>
                  <a:lnTo>
                    <a:pt x="31" y="417"/>
                  </a:lnTo>
                  <a:lnTo>
                    <a:pt x="62" y="354"/>
                  </a:lnTo>
                  <a:lnTo>
                    <a:pt x="93" y="290"/>
                  </a:lnTo>
                  <a:lnTo>
                    <a:pt x="124" y="227"/>
                  </a:lnTo>
                  <a:lnTo>
                    <a:pt x="154" y="165"/>
                  </a:lnTo>
                  <a:lnTo>
                    <a:pt x="185" y="106"/>
                  </a:lnTo>
                  <a:lnTo>
                    <a:pt x="202" y="77"/>
                  </a:lnTo>
                  <a:lnTo>
                    <a:pt x="216" y="50"/>
                  </a:lnTo>
                  <a:lnTo>
                    <a:pt x="233" y="25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12160" y="2067120"/>
              <a:ext cx="185760" cy="208080"/>
            </a:xfrm>
            <a:custGeom>
              <a:avLst/>
              <a:gdLst/>
              <a:ahLst/>
              <a:rect l="l" t="t" r="r" b="b"/>
              <a:pathLst>
                <a:path w="246" h="280">
                  <a:moveTo>
                    <a:pt x="0" y="280"/>
                  </a:moveTo>
                  <a:lnTo>
                    <a:pt x="15" y="256"/>
                  </a:lnTo>
                  <a:lnTo>
                    <a:pt x="31" y="236"/>
                  </a:lnTo>
                  <a:lnTo>
                    <a:pt x="46" y="215"/>
                  </a:lnTo>
                  <a:lnTo>
                    <a:pt x="62" y="196"/>
                  </a:lnTo>
                  <a:lnTo>
                    <a:pt x="93" y="161"/>
                  </a:lnTo>
                  <a:lnTo>
                    <a:pt x="124" y="128"/>
                  </a:lnTo>
                  <a:lnTo>
                    <a:pt x="153" y="96"/>
                  </a:lnTo>
                  <a:lnTo>
                    <a:pt x="184" y="65"/>
                  </a:lnTo>
                  <a:lnTo>
                    <a:pt x="215" y="34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07520" y="4689720"/>
              <a:ext cx="185760" cy="562680"/>
            </a:xfrm>
            <a:custGeom>
              <a:avLst/>
              <a:gdLst/>
              <a:ahLst/>
              <a:rect l="l" t="t" r="r" b="b"/>
              <a:pathLst>
                <a:path w="246" h="756">
                  <a:moveTo>
                    <a:pt x="0" y="756"/>
                  </a:moveTo>
                  <a:lnTo>
                    <a:pt x="31" y="660"/>
                  </a:lnTo>
                  <a:lnTo>
                    <a:pt x="62" y="561"/>
                  </a:lnTo>
                  <a:lnTo>
                    <a:pt x="93" y="461"/>
                  </a:lnTo>
                  <a:lnTo>
                    <a:pt x="122" y="362"/>
                  </a:lnTo>
                  <a:lnTo>
                    <a:pt x="153" y="265"/>
                  </a:lnTo>
                  <a:lnTo>
                    <a:pt x="170" y="218"/>
                  </a:lnTo>
                  <a:lnTo>
                    <a:pt x="184" y="172"/>
                  </a:lnTo>
                  <a:lnTo>
                    <a:pt x="201" y="126"/>
                  </a:lnTo>
                  <a:lnTo>
                    <a:pt x="215" y="82"/>
                  </a:lnTo>
                  <a:lnTo>
                    <a:pt x="231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93280" y="4307400"/>
              <a:ext cx="186120" cy="382320"/>
            </a:xfrm>
            <a:custGeom>
              <a:avLst/>
              <a:gdLst/>
              <a:ahLst/>
              <a:rect l="l" t="t" r="r" b="b"/>
              <a:pathLst>
                <a:path w="246" h="516">
                  <a:moveTo>
                    <a:pt x="0" y="516"/>
                  </a:moveTo>
                  <a:lnTo>
                    <a:pt x="15" y="476"/>
                  </a:lnTo>
                  <a:lnTo>
                    <a:pt x="31" y="439"/>
                  </a:lnTo>
                  <a:lnTo>
                    <a:pt x="46" y="402"/>
                  </a:lnTo>
                  <a:lnTo>
                    <a:pt x="62" y="367"/>
                  </a:lnTo>
                  <a:lnTo>
                    <a:pt x="93" y="299"/>
                  </a:lnTo>
                  <a:lnTo>
                    <a:pt x="122" y="234"/>
                  </a:lnTo>
                  <a:lnTo>
                    <a:pt x="153" y="173"/>
                  </a:lnTo>
                  <a:lnTo>
                    <a:pt x="184" y="114"/>
                  </a:lnTo>
                  <a:lnTo>
                    <a:pt x="215" y="56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79400" y="4024440"/>
              <a:ext cx="187200" cy="282600"/>
            </a:xfrm>
            <a:custGeom>
              <a:avLst/>
              <a:gdLst/>
              <a:ahLst/>
              <a:rect l="l" t="t" r="r" b="b"/>
              <a:pathLst>
                <a:path w="248" h="380">
                  <a:moveTo>
                    <a:pt x="0" y="380"/>
                  </a:moveTo>
                  <a:lnTo>
                    <a:pt x="31" y="326"/>
                  </a:lnTo>
                  <a:lnTo>
                    <a:pt x="62" y="273"/>
                  </a:lnTo>
                  <a:lnTo>
                    <a:pt x="93" y="221"/>
                  </a:lnTo>
                  <a:lnTo>
                    <a:pt x="124" y="172"/>
                  </a:lnTo>
                  <a:lnTo>
                    <a:pt x="155" y="127"/>
                  </a:lnTo>
                  <a:lnTo>
                    <a:pt x="186" y="83"/>
                  </a:lnTo>
                  <a:lnTo>
                    <a:pt x="217" y="40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66960" y="3843000"/>
              <a:ext cx="185760" cy="181440"/>
            </a:xfrm>
            <a:custGeom>
              <a:avLst/>
              <a:gdLst/>
              <a:ahLst/>
              <a:rect l="l" t="t" r="r" b="b"/>
              <a:pathLst>
                <a:path w="246" h="243">
                  <a:moveTo>
                    <a:pt x="0" y="243"/>
                  </a:moveTo>
                  <a:lnTo>
                    <a:pt x="31" y="206"/>
                  </a:lnTo>
                  <a:lnTo>
                    <a:pt x="62" y="171"/>
                  </a:lnTo>
                  <a:lnTo>
                    <a:pt x="93" y="138"/>
                  </a:lnTo>
                  <a:lnTo>
                    <a:pt x="123" y="109"/>
                  </a:lnTo>
                  <a:lnTo>
                    <a:pt x="153" y="81"/>
                  </a:lnTo>
                  <a:lnTo>
                    <a:pt x="184" y="5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52720" y="3708720"/>
              <a:ext cx="185760" cy="13392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0" y="180"/>
                  </a:moveTo>
                  <a:lnTo>
                    <a:pt x="31" y="155"/>
                  </a:lnTo>
                  <a:lnTo>
                    <a:pt x="62" y="130"/>
                  </a:lnTo>
                  <a:lnTo>
                    <a:pt x="122" y="84"/>
                  </a:lnTo>
                  <a:lnTo>
                    <a:pt x="184" y="4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38480" y="3603240"/>
              <a:ext cx="186120" cy="105480"/>
            </a:xfrm>
            <a:custGeom>
              <a:avLst/>
              <a:gdLst/>
              <a:ahLst/>
              <a:rect l="l" t="t" r="r" b="b"/>
              <a:pathLst>
                <a:path w="246" h="143">
                  <a:moveTo>
                    <a:pt x="0" y="143"/>
                  </a:moveTo>
                  <a:lnTo>
                    <a:pt x="62" y="105"/>
                  </a:lnTo>
                  <a:lnTo>
                    <a:pt x="122" y="68"/>
                  </a:lnTo>
                  <a:lnTo>
                    <a:pt x="184" y="3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24600" y="3515400"/>
              <a:ext cx="187200" cy="87480"/>
            </a:xfrm>
            <a:custGeom>
              <a:avLst/>
              <a:gdLst/>
              <a:ahLst/>
              <a:rect l="l" t="t" r="r" b="b"/>
              <a:pathLst>
                <a:path w="247" h="118">
                  <a:moveTo>
                    <a:pt x="0" y="118"/>
                  </a:moveTo>
                  <a:lnTo>
                    <a:pt x="62" y="87"/>
                  </a:lnTo>
                  <a:lnTo>
                    <a:pt x="124" y="56"/>
                  </a:lnTo>
                  <a:lnTo>
                    <a:pt x="185" y="28"/>
                  </a:lnTo>
                  <a:lnTo>
                    <a:pt x="247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12160" y="3440880"/>
              <a:ext cx="185760" cy="74520"/>
            </a:xfrm>
            <a:custGeom>
              <a:avLst/>
              <a:gdLst/>
              <a:ahLst/>
              <a:rect l="l" t="t" r="r" b="b"/>
              <a:pathLst>
                <a:path w="246" h="100">
                  <a:moveTo>
                    <a:pt x="0" y="100"/>
                  </a:moveTo>
                  <a:lnTo>
                    <a:pt x="62" y="74"/>
                  </a:lnTo>
                  <a:lnTo>
                    <a:pt x="124" y="49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397920" y="3373920"/>
              <a:ext cx="185760" cy="66600"/>
            </a:xfrm>
            <a:custGeom>
              <a:avLst/>
              <a:gdLst/>
              <a:ahLst/>
              <a:rect l="l" t="t" r="r" b="b"/>
              <a:pathLst>
                <a:path w="246" h="88">
                  <a:moveTo>
                    <a:pt x="0" y="88"/>
                  </a:moveTo>
                  <a:lnTo>
                    <a:pt x="123" y="43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583680" y="3315960"/>
              <a:ext cx="186120" cy="57960"/>
            </a:xfrm>
            <a:custGeom>
              <a:avLst/>
              <a:gdLst/>
              <a:ahLst/>
              <a:rect l="l" t="t" r="r" b="b"/>
              <a:pathLst>
                <a:path w="246" h="78">
                  <a:moveTo>
                    <a:pt x="0" y="78"/>
                  </a:moveTo>
                  <a:lnTo>
                    <a:pt x="123" y="38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770160" y="3265200"/>
              <a:ext cx="185760" cy="50400"/>
            </a:xfrm>
            <a:custGeom>
              <a:avLst/>
              <a:gdLst/>
              <a:ahLst/>
              <a:rect l="l" t="t" r="r" b="b"/>
              <a:pathLst>
                <a:path w="248" h="70">
                  <a:moveTo>
                    <a:pt x="0" y="70"/>
                  </a:moveTo>
                  <a:lnTo>
                    <a:pt x="124" y="34"/>
                  </a:lnTo>
                  <a:lnTo>
                    <a:pt x="248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55920" y="3217680"/>
              <a:ext cx="186120" cy="47520"/>
            </a:xfrm>
            <a:custGeom>
              <a:avLst/>
              <a:gdLst/>
              <a:ahLst/>
              <a:rect l="l" t="t" r="r" b="b"/>
              <a:pathLst>
                <a:path w="246" h="63">
                  <a:moveTo>
                    <a:pt x="0" y="63"/>
                  </a:moveTo>
                  <a:lnTo>
                    <a:pt x="124" y="31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142040" y="3174480"/>
              <a:ext cx="185760" cy="43200"/>
            </a:xfrm>
            <a:custGeom>
              <a:avLst/>
              <a:gdLst/>
              <a:ahLst/>
              <a:rect l="l" t="t" r="r" b="b"/>
              <a:pathLst>
                <a:path w="246" h="59">
                  <a:moveTo>
                    <a:pt x="0" y="59"/>
                  </a:moveTo>
                  <a:lnTo>
                    <a:pt x="122" y="30"/>
                  </a:lnTo>
                  <a:lnTo>
                    <a:pt x="246" y="0"/>
                  </a:lnTo>
                </a:path>
              </a:pathLst>
            </a:custGeom>
            <a:noFill/>
            <a:ln w="2844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440" y="5720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08640" y="453960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6480" y="3359160"/>
              <a:ext cx="45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5400" y="217872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5400" y="99720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0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340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8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64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09600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76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5828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032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2236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52240" y="59641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920" y="622152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-1237320" y="3203640"/>
              <a:ext cx="3429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grated Aperture (km^2*str*yea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00000" y="4631760"/>
              <a:ext cx="87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Fly'e Ey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98880" y="40572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GA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6720" y="35287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9966"/>
                  </a:solidFill>
                  <a:latin typeface="Arial"/>
                </a:rPr>
                <a:t>Hi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11240" y="286200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Auger-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71800" y="214920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cccc"/>
                  </a:solidFill>
                  <a:latin typeface="Arial"/>
                </a:rPr>
                <a:t>EU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359400" y="279936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Auger-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42240" y="1650240"/>
              <a:ext cx="112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Arial"/>
                </a:rPr>
                <a:t>Auger(S+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82800" y="358956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1600" spc="-1" strike="noStrike">
                  <a:solidFill>
                    <a:srgbClr val="3366ff"/>
                  </a:solidFill>
                  <a:latin typeface="Arial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1351080" y="1989000"/>
            <a:ext cx="5813280" cy="3749760"/>
          </a:xfrm>
          <a:custGeom>
            <a:avLst/>
            <a:gdLst/>
            <a:ahLst/>
            <a:rect l="l" t="t" r="r" b="b"/>
            <a:pathLst>
              <a:path w="3662" h="2362">
                <a:moveTo>
                  <a:pt x="0" y="2362"/>
                </a:moveTo>
                <a:cubicBezTo>
                  <a:pt x="58" y="2307"/>
                  <a:pt x="208" y="2144"/>
                  <a:pt x="351" y="2041"/>
                </a:cubicBezTo>
                <a:cubicBezTo>
                  <a:pt x="494" y="1938"/>
                  <a:pt x="718" y="1824"/>
                  <a:pt x="860" y="1744"/>
                </a:cubicBezTo>
                <a:cubicBezTo>
                  <a:pt x="1002" y="1664"/>
                  <a:pt x="1061" y="1628"/>
                  <a:pt x="1203" y="1560"/>
                </a:cubicBezTo>
                <a:cubicBezTo>
                  <a:pt x="1345" y="1492"/>
                  <a:pt x="1572" y="1397"/>
                  <a:pt x="1712" y="1335"/>
                </a:cubicBezTo>
                <a:cubicBezTo>
                  <a:pt x="1852" y="1273"/>
                  <a:pt x="1940" y="1238"/>
                  <a:pt x="2046" y="1185"/>
                </a:cubicBezTo>
                <a:cubicBezTo>
                  <a:pt x="2152" y="1132"/>
                  <a:pt x="2256" y="1101"/>
                  <a:pt x="2346" y="1018"/>
                </a:cubicBezTo>
                <a:cubicBezTo>
                  <a:pt x="2436" y="935"/>
                  <a:pt x="2495" y="801"/>
                  <a:pt x="2588" y="684"/>
                </a:cubicBezTo>
                <a:cubicBezTo>
                  <a:pt x="2681" y="567"/>
                  <a:pt x="2792" y="411"/>
                  <a:pt x="2906" y="316"/>
                </a:cubicBezTo>
                <a:cubicBezTo>
                  <a:pt x="3020" y="221"/>
                  <a:pt x="3147" y="169"/>
                  <a:pt x="3273" y="116"/>
                </a:cubicBezTo>
                <a:cubicBezTo>
                  <a:pt x="3399" y="63"/>
                  <a:pt x="3581" y="24"/>
                  <a:pt x="3662" y="0"/>
                </a:cubicBezTo>
              </a:path>
            </a:pathLst>
          </a:custGeom>
          <a:noFill/>
          <a:ln w="763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934-E0BA-4459-8ECF-B2B67134CCDE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6C291-2265-4198-ACBD-3D009501879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55640" y="362520"/>
            <a:ext cx="612936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Gravitation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r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URIG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ini-Grail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UAL R&amp;D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ROG (Nautilus + Explor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) Interfero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eo-600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IR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GO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ISA Pathfinder/LI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arge Underground Interferomet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60720" y="2349360"/>
            <a:ext cx="397548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Price t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GO:  260 M€ (US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Adv.Ligo: +210 M€ (di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IRGO: 85 M€ (cap.inv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ISA: 200 M€ (ESA co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LUI: 200 M€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A93-1E64-4A3D-8F82-09B84247EE02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35B0E-52B6-4F0F-81E3-C7BED89CEF16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611280" y="397080"/>
            <a:ext cx="69832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Low Energy Neutrino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Franklin Gothic Medium"/>
              </a:rPr>
              <a:t>Proton Dec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T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orex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NO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LACIER    (100 kton LAr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NA          (50 kt scintillator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       MEMPHYS (Water Megatonne)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58920" y="4005360"/>
            <a:ext cx="223056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Ultimate price ta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3333cc"/>
                </a:solidFill>
                <a:latin typeface="Arial"/>
              </a:rPr>
              <a:t>500-800 M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55960" y="5805360"/>
            <a:ext cx="23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~ 20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340000" y="5157360"/>
            <a:ext cx="0" cy="576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6FC-33E1-4E4F-9597-E7FD0C5FAC46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52BAD-4DE6-4B67-8B90-5345733217E4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process of cooperation and concentration is ongo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 community has a lead position in many field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infancy to maturity: the past 1-2 decades have born the instruments &amp; methods for doing science with high discovery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lerated increase in sensitivity in nearly all fiel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admap will reflect this process, make the physics case to funding agencies and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8160" y="5445000"/>
            <a:ext cx="839196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ive in an exciting period. Lets make use of the chanc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931-F283-47F0-A727-855DB1CE292A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F9C87-CE57-41C9-B599-7839F0D8BB74}" type="datetime1">
              <a:rPr lang="en-US"/>
              <a:t>07/28/26</a:t>
            </a:fld>
          </a:p>
        </p:txBody>
      </p:sp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pen sessions not clearly enough advertised as open s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 reasonable but often too minim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ommendations did not reach the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ey even did not reach the presenters (if not inofficial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asonable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M3Net design study profited from PRC recommendations via communication channels between SC and Bruss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 translated PRC recommendations to a support for I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ommon understanding among the PRC members and style of discussion form a good basis for roadmap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Comments on PRC Work and Impa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EE9-12CC-4FAC-8CB8-8DBB9F7F7A2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111AA-C7EC-414A-9F8B-8B94C9D22A6F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77770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ore transparen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pPEC web page   </a:t>
            </a: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https://ptweb.desy.de/ap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raft of Roadmap will be placed to the web for discussion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pPEC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ll improve will advent of  ApPEC secretari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esentation of plans to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AUP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his Town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oadmap Meeting in April/May 2006 (see be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xchange of information with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loser contacts between ILIAS, HEAPNET and ApPEC P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260280"/>
            <a:ext cx="770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Plans for Improv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011-AA05-4910-85C0-027FDB3E948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60091-C312-4AF0-9B39-324FED2D7763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eering Committee has charged PRC to write a roadmap on Astroparticle Physics in Europe over the next 10 years, with a focus to the next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omote astroparticle phys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imulate coordination and cooperation within the European APP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pare future decisions on National and European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47640" y="47628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D10-A730-4631-9C9D-3309B290CEE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E3278-064E-412D-9A6E-12057EFB14D2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ees of the roadmap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tional funding agen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an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neral physics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ur own community (shaping and rationalize our view on goals and prioriti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EC roadmap will take note of existing national roadmaps. For national roadmaps being written </a:t>
            </a: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exchange of views and pl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put to ESFRI and FP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ose connection to ILIAS, HEAPNE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333360"/>
            <a:ext cx="604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Astroparticle Roadma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51C-FF2D-450F-B308-1DA8C8423A4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95AFA-E34B-459C-8C20-169AB43BCDB7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intend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l the field to the outsid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coordination and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mote the development of infra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dentify critical points for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oadmap will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lare decisions w. r. t. experiments and techniques which have to be taken by the cooperating/competing expert groups working in th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9640" y="333360"/>
            <a:ext cx="813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 Black"/>
              </a:rPr>
              <a:t>What is the intention of the roadmap, and what n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AE8-1C97-4161-81D0-12BFC8AFF9F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A8015-B565-41D7-8428-9C760859EFC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3810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k Avig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 Berna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mas Berghoe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onid Bezruk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Binetr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Blu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rsten Danz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z v. Feilitz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rique F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rner Hof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Iliopo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i K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32000" y="1628280"/>
            <a:ext cx="3809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olo Lip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el Martin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onio Mas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oit M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sco Ro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re Rub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ir Sark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enther Si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ard Smad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el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istian Spi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an Wa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43E-0442-484E-B428-2AABC22247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0C3B-785B-46C2-92E3-51738868A590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7:14:56Z</dcterms:created>
  <dc:creator>csspier</dc:creator>
  <dc:description/>
  <dc:language>en-US</dc:language>
  <cp:lastModifiedBy>nb29</cp:lastModifiedBy>
  <dcterms:modified xsi:type="dcterms:W3CDTF">2005-11-25T09:20:38Z</dcterms:modified>
  <cp:revision>55</cp:revision>
  <dc:subject/>
  <dc:title>PowerPoint-Präsentation</dc:title>
</cp:coreProperties>
</file>